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4.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27.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0.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93.xml" ContentType="application/vnd.openxmlformats-officedocument.presentationml.slide+xml"/>
  <Override PartName="/ppt/slides/slide121.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22.xml" ContentType="application/vnd.openxmlformats-officedocument.presentationml.slide+xml"/>
  <Override PartName="/ppt/slides/slide71.xml" ContentType="application/vnd.openxmlformats-officedocument.presentationml.slide+xml"/>
  <Override PartName="/ppt/slides/slide118.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70.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27.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60.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8.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47.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8.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49.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B56CEA2-0F5E-43EE-8D6C-493F2BE564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A03FC1-B0F2-4B0B-BFBC-3F3B46F0DA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EE116D2-A67A-48A3-A4EB-6C3D14D81F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20BBC23-0A61-4BAF-ABD4-21DBAE6C02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E73BD8-CEC9-44A7-9575-3903B8116B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A76AC0-695E-44B1-A5F8-4B9F85BCC1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B534E0-BFE3-4C72-BBD9-C78267E208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29922D-9169-4AAE-9425-C40296BB72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7D3007-6216-4A20-92CA-4AA860CD04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74FF5E-0E11-4400-8C0C-6FEC9B51CE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5600F-82F1-4269-B50E-FEA7328B4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39202DD-F6EE-4DE0-B28E-B7EF1F14B6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F0E1B-CFD2-4D51-8824-D128C15CE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B72E1-FDD5-4974-9BF8-4D5132A27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F53AF0-C42C-471B-AD3A-56B4DCFA9B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D723C2-86AB-4D73-B5CD-ADD3B1B680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53CD4C-2619-4D53-95AD-EC0F7F8CF6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07C443-63CD-4F9E-B961-06CCE3C13B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17CBD3-0BC3-435A-B559-55E7E550FE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8DDB9A-A41D-41A1-B361-AAEC6BF92F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55CE4F-99D5-4A7D-AAFA-016960E18E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1B69E9-4440-48BE-89E4-98F020F087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0A4CAC-409E-44CB-B725-9459C9726B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EA0FB5-6E7A-4B2F-B9B5-71B174EB4DA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Unicode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Unicode MS"/>
              </a:rPr>
              <a:t>&lt;footer&gt;</a:t>
            </a:r>
            <a:endParaRPr b="0" lang="en-US" sz="1200" spc="-1" strike="noStrike">
              <a:solidFill>
                <a:srgbClr val="000000"/>
              </a:solidFill>
              <a:latin typeface="Arial Unicode MS"/>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8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FA634-F0EA-4F30-ADF7-389DA5144655}" type="slidenum">
              <a:rPr b="1" i="1" lang="en-US" sz="1400" spc="-1" strike="noStrike">
                <a:solidFill>
                  <a:srgbClr val="008000"/>
                </a:solidFill>
                <a:latin typeface="Comic Sans MS"/>
              </a:rPr>
              <a:t>&lt;number&gt;</a:t>
            </a:fld>
            <a:endParaRPr b="0" lang="en-US" sz="1400" spc="-1" strike="noStrike">
              <a:solidFill>
                <a:srgbClr val="000000"/>
              </a:solidFill>
              <a:latin typeface="Arial Unicode MS"/>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4" name=""/>
            <p:cNvSpPr/>
            <p:nvPr/>
          </p:nvSpPr>
          <p:spPr>
            <a:xfrm>
              <a:off x="412920" y="135000"/>
              <a:ext cx="8731080" cy="274680"/>
            </a:xfrm>
            <a:prstGeom prst="rect">
              <a:avLst/>
            </a:prstGeom>
            <a:gradFill rotWithShape="0">
              <a:gsLst>
                <a:gs pos="0">
                  <a:srgbClr val="ffffff"/>
                </a:gs>
                <a:gs pos="100000">
                  <a:srgbClr val="336600"/>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5" name=""/>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6" name=""/>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7" name=""/>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8" name=""/>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9" name=""/>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10" name=""/>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11" name=""/>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00"/>
                </a:solidFill>
                <a:latin typeface="Comic Sans MS"/>
              </a:rPr>
              <a:t>Click to edit the title text format</a:t>
            </a:r>
            <a:endParaRPr b="1" i="1" lang="en-US" sz="4400" spc="-1" strike="noStrike">
              <a:solidFill>
                <a:srgbClr val="003300"/>
              </a:solidFill>
              <a:latin typeface="Comic Sans MS"/>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Click to edit the outline text format</a:t>
            </a:r>
            <a:endParaRPr b="0" lang="en-US" sz="3200" spc="-1" strike="noStrike">
              <a:solidFill>
                <a:srgbClr val="003300"/>
              </a:solidFill>
              <a:latin typeface="Comic Sans MS"/>
            </a:endParaRPr>
          </a:p>
          <a:p>
            <a:pPr lvl="1" marL="698400" indent="-268560">
              <a:spcBef>
                <a:spcPts val="799"/>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Second Outline Level</a:t>
            </a:r>
            <a:endParaRPr b="0" lang="en-US" sz="3200" spc="-1" strike="noStrike">
              <a:solidFill>
                <a:srgbClr val="003300"/>
              </a:solidFill>
              <a:latin typeface="Comic Sans MS"/>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Third Outline Level</a:t>
            </a:r>
            <a:endParaRPr b="0" lang="en-US" sz="3200" spc="-1" strike="noStrike">
              <a:solidFill>
                <a:srgbClr val="003300"/>
              </a:solidFill>
              <a:latin typeface="Comic Sans MS"/>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Fourth Outline Level</a:t>
            </a:r>
            <a:endParaRPr b="0" lang="en-US" sz="3200" spc="-1" strike="noStrike">
              <a:solidFill>
                <a:srgbClr val="003300"/>
              </a:solidFill>
              <a:latin typeface="Comic Sans MS"/>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Fifth Outline Level</a:t>
            </a:r>
            <a:endParaRPr b="0" lang="en-US" sz="3200" spc="-1" strike="noStrike">
              <a:solidFill>
                <a:srgbClr val="003300"/>
              </a:solidFill>
              <a:latin typeface="Comic Sans MS"/>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Sixth Outline Level</a:t>
            </a:r>
            <a:endParaRPr b="0" lang="en-US" sz="3200" spc="-1" strike="noStrike">
              <a:solidFill>
                <a:srgbClr val="003300"/>
              </a:solidFill>
              <a:latin typeface="Comic Sans MS"/>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Seventh Outline Level</a:t>
            </a:r>
            <a:endParaRPr b="0" lang="en-US" sz="3200" spc="-1" strike="noStrike">
              <a:solidFill>
                <a:srgbClr val="003300"/>
              </a:solidFill>
              <a:latin typeface="Comic Sans MS"/>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Unicode MS"/>
              </a:rPr>
              <a:t>&lt;date/time&gt;</a:t>
            </a:r>
            <a:endParaRPr b="0"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53" name=""/>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56" name=""/>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57" name=""/>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58" name=""/>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59" name=""/>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60" name=""/>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61" name=""/>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62" name=""/>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63" name=""/>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64" name=""/>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Unicode MS"/>
              </a:rPr>
              <a:t>&lt;date/time&gt;</a:t>
            </a:r>
            <a:endParaRPr b="0" lang="en-US" sz="1200" spc="-1" strike="noStrike">
              <a:solidFill>
                <a:srgbClr val="000000"/>
              </a:solidFill>
              <a:latin typeface="Arial Unicode MS"/>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Unicode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Unicode MS"/>
              </a:rPr>
              <a:t>&lt;footer&gt;</a:t>
            </a:r>
            <a:endParaRPr b="0" lang="en-US" sz="1200" spc="-1" strike="noStrike">
              <a:solidFill>
                <a:srgbClr val="000000"/>
              </a:solidFill>
              <a:latin typeface="Arial Unicode MS"/>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A72EA-30A0-499B-90F4-01A1DDEAD55F}" type="slidenum">
              <a:rPr b="0" lang="en-US" sz="1200" spc="-1" strike="noStrike">
                <a:solidFill>
                  <a:srgbClr val="003300"/>
                </a:solidFill>
                <a:latin typeface="Arial Black"/>
              </a:rPr>
              <a:t>&lt;number&gt;</a:t>
            </a:fld>
            <a:endParaRPr b="0" lang="en-US" sz="1200" spc="-1" strike="noStrike">
              <a:solidFill>
                <a:srgbClr val="000000"/>
              </a:solidFill>
              <a:latin typeface="Arial Unicode MS"/>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a:solidFill>
                  <a:srgbClr val="ffffff"/>
                </a:solidFill>
                <a:latin typeface="Comic Sans MS"/>
              </a:rPr>
              <a:t>Click to edit the title text format</a:t>
            </a:r>
            <a:endParaRPr b="1" i="1" lang="en-US" sz="50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4648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3300"/>
                </a:solidFill>
                <a:latin typeface="Comic Sans MS"/>
              </a:rPr>
              <a:t>	</a:t>
            </a:r>
            <a:r>
              <a:rPr b="1" i="1" lang="en-US" sz="1700" spc="-1" strike="noStrike">
                <a:solidFill>
                  <a:srgbClr val="003300"/>
                </a:solidFill>
                <a:latin typeface="Comic Sans MS"/>
              </a:rPr>
              <a:t>	</a:t>
            </a:r>
            <a:r>
              <a:rPr b="1" i="1" lang="en-US" sz="1700" spc="-1" strike="noStrike">
                <a:solidFill>
                  <a:srgbClr val="003300"/>
                </a:solidFill>
                <a:latin typeface="Comic Sans MS"/>
              </a:rPr>
              <a:t>	</a:t>
            </a:r>
            <a:r>
              <a:rPr b="1" i="1" lang="en-US" sz="1700" spc="-1" strike="noStrike">
                <a:solidFill>
                  <a:srgbClr val="003300"/>
                </a:solidFill>
                <a:latin typeface="Comic Sans MS"/>
              </a:rPr>
              <a:t>	</a:t>
            </a:r>
            <a:r>
              <a:rPr b="1" i="1" lang="en-US" sz="1700" spc="-1" strike="noStrike">
                <a:solidFill>
                  <a:srgbClr val="003300"/>
                </a:solidFill>
                <a:latin typeface="Comic Sans MS"/>
              </a:rPr>
              <a:t>LEVENT YAZICI</a:t>
            </a:r>
            <a:br>
              <a:rPr sz="1700"/>
            </a:br>
            <a:r>
              <a:rPr b="1" i="1" lang="en-US" sz="1700" spc="-1" strike="noStrike">
                <a:solidFill>
                  <a:srgbClr val="003300"/>
                </a:solidFill>
                <a:latin typeface="Comic Sans MS"/>
              </a:rPr>
              <a:t>	</a:t>
            </a:r>
            <a:r>
              <a:rPr b="1" i="1" lang="en-US" sz="1700" spc="-1" strike="noStrike">
                <a:solidFill>
                  <a:srgbClr val="003300"/>
                </a:solidFill>
                <a:latin typeface="Comic Sans MS"/>
              </a:rPr>
              <a:t>	</a:t>
            </a:r>
            <a:r>
              <a:rPr b="1" i="1" lang="en-US" sz="1700" spc="-1" strike="noStrike">
                <a:solidFill>
                  <a:srgbClr val="003300"/>
                </a:solidFill>
                <a:latin typeface="Comic Sans MS"/>
              </a:rPr>
              <a:t>	</a:t>
            </a:r>
            <a:r>
              <a:rPr b="1" i="1" lang="en-US" sz="1700" spc="-1" strike="noStrike">
                <a:solidFill>
                  <a:srgbClr val="003300"/>
                </a:solidFill>
                <a:latin typeface="Comic Sans MS"/>
              </a:rPr>
              <a:t>	</a:t>
            </a:r>
            <a:r>
              <a:rPr b="1" i="1" lang="en-US" sz="1700" spc="-1" strike="noStrike">
                <a:solidFill>
                  <a:srgbClr val="003300"/>
                </a:solidFill>
                <a:latin typeface="Comic Sans MS"/>
              </a:rPr>
              <a:t>105226031</a:t>
            </a:r>
            <a:br>
              <a:rPr sz="1700"/>
            </a:br>
            <a:br>
              <a:rPr sz="1700"/>
            </a:br>
            <a:r>
              <a:rPr b="1" i="1" lang="en-US" sz="1700" spc="-1" strike="noStrike">
                <a:solidFill>
                  <a:srgbClr val="003300"/>
                </a:solidFill>
                <a:latin typeface="Comic Sans MS"/>
              </a:rPr>
              <a:t>	</a:t>
            </a:r>
            <a:endParaRPr b="1" i="1" lang="en-US" sz="1700" spc="-1" strike="noStrike">
              <a:solidFill>
                <a:srgbClr val="003300"/>
              </a:solidFill>
              <a:latin typeface="Comic Sans MS"/>
            </a:endParaRPr>
          </a:p>
        </p:txBody>
      </p:sp>
      <p:sp>
        <p:nvSpPr>
          <p:cNvPr id="106" name="PlaceHolder 2"/>
          <p:cNvSpPr>
            <a:spLocks noGrp="1"/>
          </p:cNvSpPr>
          <p:nvPr>
            <p:ph/>
          </p:nvPr>
        </p:nvSpPr>
        <p:spPr>
          <a:xfrm>
            <a:off x="457200" y="1981080"/>
            <a:ext cx="8229600" cy="1866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endParaRPr b="0" lang="en-US" sz="2800" spc="-1" strike="noStrike">
              <a:solidFill>
                <a:srgbClr val="003300"/>
              </a:solidFill>
              <a:latin typeface="Comic Sans MS"/>
            </a:endParaRPr>
          </a:p>
        </p:txBody>
      </p:sp>
      <p:pic>
        <p:nvPicPr>
          <p:cNvPr id="107" name="" descr=""/>
          <p:cNvPicPr/>
          <p:nvPr/>
        </p:nvPicPr>
        <p:blipFill>
          <a:blip r:embed="rId1"/>
          <a:stretch/>
        </p:blipFill>
        <p:spPr>
          <a:xfrm>
            <a:off x="380880" y="380880"/>
            <a:ext cx="8305920" cy="1417680"/>
          </a:xfrm>
          <a:prstGeom prst="rect">
            <a:avLst/>
          </a:prstGeom>
          <a:ln w="0">
            <a:noFill/>
          </a:ln>
        </p:spPr>
      </p:pic>
      <p:sp>
        <p:nvSpPr>
          <p:cNvPr id="108" name=""/>
          <p:cNvSpPr/>
          <p:nvPr/>
        </p:nvSpPr>
        <p:spPr>
          <a:xfrm>
            <a:off x="457200" y="2057400"/>
            <a:ext cx="8153280" cy="200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Unicode MS"/>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00"/>
                </a:solidFill>
                <a:latin typeface="Comic Sans MS"/>
              </a:rPr>
              <a:t>EĞİTİM YÖNETİMİ </a:t>
            </a:r>
            <a:endParaRPr b="0" lang="en-US" sz="2000" spc="-1" strike="noStrike">
              <a:solidFill>
                <a:srgbClr val="003300"/>
              </a:solidFill>
              <a:latin typeface="Arial Unicode MS"/>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00"/>
                </a:solidFill>
                <a:latin typeface="Comic Sans MS"/>
              </a:rPr>
              <a:t>VE TEFTİŞİ PLANLAMASI VE EKONOMİSİ </a:t>
            </a:r>
            <a:endParaRPr b="0" lang="en-US" sz="2000" spc="-1" strike="noStrike">
              <a:solidFill>
                <a:srgbClr val="003300"/>
              </a:solidFill>
              <a:latin typeface="Arial Unicode MS"/>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00"/>
                </a:solidFill>
                <a:latin typeface="Comic Sans MS"/>
              </a:rPr>
              <a:t>TEZSİZ YÜKSEK LİSANS PROGRAMI</a:t>
            </a:r>
            <a:endParaRPr b="0" lang="en-US" sz="2000" spc="-1" strike="noStrike">
              <a:solidFill>
                <a:srgbClr val="003300"/>
              </a:solidFill>
              <a:latin typeface="Arial Unicode MS"/>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Unicode MS"/>
            </a:endParaRPr>
          </a:p>
        </p:txBody>
      </p:sp>
      <p:sp>
        <p:nvSpPr>
          <p:cNvPr id="4" name="PlaceHolder 3"/>
          <p:cNvSpPr>
            <a:spLocks noGrp="1"/>
          </p:cNvSpPr>
          <p:nvPr>
            <p:ph type="sldNum" idx="2"/>
          </p:nvPr>
        </p:nvSpPr>
        <p:spPr/>
        <p:txBody>
          <a:bodyPr/>
          <a:p>
            <a:fld id="{F1E3E457-1724-430C-A80C-CD20F555F3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eftişte Amaç</a:t>
            </a:r>
            <a:endParaRPr b="1" i="1" lang="en-US" sz="3200" spc="-1" strike="noStrike">
              <a:solidFill>
                <a:srgbClr val="003300"/>
              </a:solidFill>
              <a:latin typeface="Comic Sans MS"/>
            </a:endParaRPr>
          </a:p>
        </p:txBody>
      </p:sp>
      <p:sp>
        <p:nvSpPr>
          <p:cNvPr id="125"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  </a:t>
            </a:r>
            <a:r>
              <a:rPr b="0" lang="en-US" sz="3200" spc="-1" strike="noStrike">
                <a:solidFill>
                  <a:srgbClr val="003300"/>
                </a:solidFill>
                <a:latin typeface="Comic Sans MS"/>
              </a:rPr>
              <a:t>	</a:t>
            </a:r>
            <a:r>
              <a:rPr b="0" lang="en-US" sz="3200" spc="-1" strike="noStrike">
                <a:solidFill>
                  <a:srgbClr val="003300"/>
                </a:solidFill>
                <a:latin typeface="Comic Sans MS"/>
              </a:rPr>
              <a:t>	</a:t>
            </a:r>
            <a:r>
              <a:rPr b="0" lang="en-US" sz="3200" spc="-1" strike="noStrike">
                <a:solidFill>
                  <a:srgbClr val="003300"/>
                </a:solidFill>
                <a:latin typeface="Comic Sans MS"/>
              </a:rPr>
              <a:t>Teftişte amaçları genel ve özel olmak  üzere iki kısımda incelenebilir.</a:t>
            </a:r>
            <a:endParaRPr b="0" lang="en-US" sz="3200" spc="-1" strike="noStrike">
              <a:solidFill>
                <a:srgbClr val="0033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  </a:t>
            </a:r>
            <a:r>
              <a:rPr b="0" lang="en-US" sz="3200" spc="-1" strike="noStrike" u="sng">
                <a:solidFill>
                  <a:srgbClr val="003300"/>
                </a:solidFill>
                <a:uFillTx/>
                <a:latin typeface="Comic Sans MS"/>
              </a:rPr>
              <a:t>Genel amaçlar</a:t>
            </a:r>
            <a:r>
              <a:rPr b="0" lang="en-US" sz="3200" spc="-1" strike="noStrike">
                <a:solidFill>
                  <a:srgbClr val="003300"/>
                </a:solidFill>
                <a:latin typeface="Comic Sans MS"/>
              </a:rPr>
              <a:t>; tüm teftiş hizmetleri için kapsamlı olarak alınır.</a:t>
            </a:r>
            <a:endParaRPr b="0" lang="en-US" sz="3200" spc="-1" strike="noStrike">
              <a:solidFill>
                <a:srgbClr val="0033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	</a:t>
            </a:r>
            <a:r>
              <a:rPr b="0" lang="en-US" sz="3200" spc="-1" strike="noStrike" u="sng">
                <a:solidFill>
                  <a:srgbClr val="003300"/>
                </a:solidFill>
                <a:uFillTx/>
                <a:latin typeface="Comic Sans MS"/>
              </a:rPr>
              <a:t>Özel amaçlar</a:t>
            </a:r>
            <a:r>
              <a:rPr b="0" lang="en-US" sz="3200" spc="-1" strike="noStrike">
                <a:solidFill>
                  <a:srgbClr val="003300"/>
                </a:solidFill>
                <a:latin typeface="Comic Sans MS"/>
              </a:rPr>
              <a:t>, yapılacak teftişin fonksiyonuna ve durumuna göre, genellikle genel amaçların bütünlüğü içinde ayrıntılı olarak saptanır.</a:t>
            </a:r>
            <a:endParaRPr b="0" lang="en-US" sz="3200" spc="-1" strike="noStrike">
              <a:solidFill>
                <a:srgbClr val="0033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0A35ACB7-9AB8-4727-B5FA-68EA69C333A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Soruşturma Raporunun Bölümleri</a:t>
            </a:r>
            <a:endParaRPr b="1" i="1" lang="en-US" sz="3600" spc="-1" strike="noStrike">
              <a:solidFill>
                <a:srgbClr val="003300"/>
              </a:solidFill>
              <a:latin typeface="Comic Sans MS"/>
            </a:endParaRPr>
          </a:p>
        </p:txBody>
      </p:sp>
      <p:sp>
        <p:nvSpPr>
          <p:cNvPr id="30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İdari teklifler getirilirken</a:t>
            </a:r>
            <a:r>
              <a:rPr b="1" i="1" lang="en-US" sz="2800" spc="-1" strike="noStrike">
                <a:solidFill>
                  <a:srgbClr val="003300"/>
                </a:solidFill>
                <a:latin typeface="Comic Sans MS"/>
              </a:rPr>
              <a:t>, </a:t>
            </a:r>
            <a:r>
              <a:rPr b="0" lang="en-US" sz="2800" spc="-1" strike="noStrike">
                <a:solidFill>
                  <a:srgbClr val="003300"/>
                </a:solidFill>
                <a:latin typeface="Comic Sans MS"/>
              </a:rPr>
              <a:t>kesinlik kazanan eylemin boyutu, görevin yürü­tülmesinde kamu yararı ve zararı, kurumun gelişmesine tesir edebilecek etkiler, kişi­sel durumlar, ilgilinin bu görevinde kalmasındaki sakıncalar dikkatle değerlendiril­meli, görevinde kalmasında sakınca bulunduğu sonucuna ulaşılmışsa, nedenleri be­lirtilerek idareye ışık tutulmalıdır.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EC58562E-3D55-4ED0-B7D7-8A5168D9553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Soruşturma Raporunun Bölümleri</a:t>
            </a:r>
            <a:endParaRPr b="1" i="1" lang="en-US" sz="3600" spc="-1" strike="noStrike">
              <a:solidFill>
                <a:srgbClr val="003300"/>
              </a:solidFill>
              <a:latin typeface="Comic Sans MS"/>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Disiplin teklifi getirilirken “ölçülülük ilkesi”nin dikkate alınması gerekmektedir.</a:t>
            </a:r>
            <a:r>
              <a:rPr b="0" lang="en-US" sz="2000" spc="-1" strike="noStrike">
                <a:solidFill>
                  <a:srgbClr val="003300"/>
                </a:solidFill>
                <a:latin typeface="Comic Sans MS"/>
              </a:rPr>
              <a:t> Ölçülülük ilkesi, devlet ve organlarının faaliyetlerinin ölçülü, makul olmasını anlatır. Bu ilke, suç ve ceza arasındaki oran ve özgürlüklerin korunması alanında geçerlidir. Özgürlükler açısından eşitlik düşüncesiyle getirilen sınırlamanın, hak üzerinde meydana getirdiği etkiyi haklı kılmaya yetebilecek bir derecede olması, bu sınırlamada önemli bir durumun varlığının aranması ölçülülük ilkesinin gereğidir. Ölçülülük, İdarenin yetkilerini gerçekleştirirken takınacağı tavrın, sadece varılmak istenen sonuca ulaşmaya yetecek kadar olmasını öngörmekte, fazlasının geçersiz olması sonucunu doğurmaktadır. </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6E080512-443F-4F55-9D82-86F956A6CFF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Soruşturma Raporunun Bölümleri</a:t>
            </a:r>
            <a:endParaRPr b="1" i="1" lang="en-US" sz="3600" spc="-1" strike="noStrike">
              <a:solidFill>
                <a:srgbClr val="003300"/>
              </a:solidFill>
              <a:latin typeface="Comic Sans MS"/>
            </a:endParaRPr>
          </a:p>
        </p:txBody>
      </p:sp>
      <p:sp>
        <p:nvSpPr>
          <p:cNvPr id="3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3300"/>
                </a:solidFill>
                <a:latin typeface="Comic Sans MS"/>
              </a:rPr>
              <a:t>Mali yönden</a:t>
            </a:r>
            <a:r>
              <a:rPr b="0" lang="tr-TR" sz="2400" spc="-1" strike="noStrike">
                <a:solidFill>
                  <a:srgbClr val="003300"/>
                </a:solidFill>
                <a:latin typeface="Comic Sans MS"/>
              </a:rPr>
              <a:t> herhangi bir kesinti veya para ödettirilmesi teklifinde, kısaca nedeni ve ne kadar miktarın nereye kesilmesi gerektiği açıklanmalıdır. Birlikte ödettirilmesi istenecek tekliflerde, kişilere isabet eden miktarlar belirtilmeli, bu hususta yapılacak tespit ve tekliflerde, 13.8.1983 tarih ve 18134 sayılı Resmi Gazetede ya­yımlanan, </a:t>
            </a:r>
            <a:r>
              <a:rPr b="1" lang="tr-TR" sz="2400" spc="-1" strike="noStrike">
                <a:solidFill>
                  <a:srgbClr val="003300"/>
                </a:solidFill>
                <a:latin typeface="Comic Sans MS"/>
              </a:rPr>
              <a:t>“Devlete ve Kişilere, Memurlarca Verilen Zararların Nev’i, Miktarının Tespiti, Takibi, Yapılacak Diğer İşlemler Hakkındaki Yönetmelik”</a:t>
            </a:r>
            <a:r>
              <a:rPr b="0" lang="tr-TR" sz="2400" spc="-1" strike="noStrike">
                <a:solidFill>
                  <a:srgbClr val="003300"/>
                </a:solidFill>
                <a:latin typeface="Comic Sans MS"/>
              </a:rPr>
              <a:t> hükümlerince ha­reket edilmelidir. </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E751EA9C-A18B-4E20-ADFB-612C4AFF665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Soruşturma Raporunun İlgili Makama Sunulması</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3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İdari soruşturma raporları, birisi belgeli olmak üzere asgari iki nüsha olarak düzenlenmeli ve soruşturmanın tamamlanmasından sonra, görevlendirme emrini veren makama makul bir sürede verilmelidir. </a:t>
            </a:r>
            <a:endParaRPr b="0" lang="en-US" sz="2400" spc="-1" strike="noStrike">
              <a:solidFill>
                <a:srgbClr val="003300"/>
              </a:solidFill>
              <a:latin typeface="Comic Sans MS"/>
            </a:endParaRPr>
          </a:p>
          <a:p>
            <a:pPr marL="335880" indent="-3358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Bakanlık Müfettişlerince hazırlanan soruşturma raporları ise, Teftiş Kurulu Yönetmeliği gereğince, işin bitiminden itibaren 20 gün içinde Teftiş Kurulu Başkanlığına sunulmalıdır.</a:t>
            </a:r>
            <a:endParaRPr b="0" lang="en-US" sz="2400" spc="-1" strike="noStrike">
              <a:solidFill>
                <a:srgbClr val="003300"/>
              </a:solidFill>
              <a:latin typeface="Comic Sans MS"/>
            </a:endParaRPr>
          </a:p>
          <a:p>
            <a:pPr marL="335880" indent="-3358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Disiplin soruşturmalarının her aşamasında gizliliğe gerekli özen gösterilmeli, alınan ifadelerin örnekleri sahiplerine verilmemelidi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BCC29949-A288-4432-95AC-9D54D89AD39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362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00"/>
                </a:solidFill>
                <a:latin typeface="Comic Sans MS"/>
              </a:rPr>
              <a:t>ÖN İNCELEME</a:t>
            </a:r>
            <a:endParaRPr b="1" i="1" lang="en-US" sz="4400" spc="-1" strike="noStrike">
              <a:solidFill>
                <a:srgbClr val="003300"/>
              </a:solidFill>
              <a:latin typeface="Comic Sans MS"/>
            </a:endParaRPr>
          </a:p>
        </p:txBody>
      </p:sp>
      <p:sp>
        <p:nvSpPr>
          <p:cNvPr id="3" name="PlaceHolder 2"/>
          <p:cNvSpPr>
            <a:spLocks noGrp="1"/>
          </p:cNvSpPr>
          <p:nvPr>
            <p:ph type="sldNum" idx="2"/>
          </p:nvPr>
        </p:nvSpPr>
        <p:spPr/>
        <p:txBody>
          <a:bodyPr/>
          <a:p>
            <a:fld id="{58DDFFA0-0004-4E7D-8176-51B7B971480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6858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ÖN İNCELEME RAPORU VE DÜZENLENMESİNİ GEREKTİREN HALLER</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312"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 </a:t>
            </a:r>
            <a:r>
              <a:rPr b="0" lang="en-US" sz="2000" spc="-1" strike="noStrike">
                <a:solidFill>
                  <a:srgbClr val="003300"/>
                </a:solidFill>
                <a:latin typeface="Comic Sans MS"/>
              </a:rPr>
              <a:t>Soruşturmanın uzaması, bazı idari tedbirlerin ivedilikle alınmasına ihtiyaç duyulması ve idareye bilgi verilmesinin gerekmesi durumunda düzenlenen raporlara </a:t>
            </a:r>
            <a:r>
              <a:rPr b="1" lang="en-US" sz="2000" spc="-1" strike="noStrike">
                <a:solidFill>
                  <a:srgbClr val="003300"/>
                </a:solidFill>
                <a:latin typeface="Comic Sans MS"/>
              </a:rPr>
              <a:t>“ön rapor”</a:t>
            </a:r>
            <a:r>
              <a:rPr b="1" i="1" lang="en-US" sz="2000" spc="-1" strike="noStrike">
                <a:solidFill>
                  <a:srgbClr val="003300"/>
                </a:solidFill>
                <a:latin typeface="Comic Sans MS"/>
              </a:rPr>
              <a:t> </a:t>
            </a:r>
            <a:r>
              <a:rPr b="0" lang="en-US" sz="2000" spc="-1" strike="noStrike">
                <a:solidFill>
                  <a:srgbClr val="003300"/>
                </a:solidFill>
                <a:latin typeface="Comic Sans MS"/>
              </a:rPr>
              <a:t>denilir. Ancak bu rapor, 4483 sayılı Kanuna göre düzenlenen “</a:t>
            </a:r>
            <a:r>
              <a:rPr b="1" lang="en-US" sz="2000" spc="-1" strike="noStrike">
                <a:solidFill>
                  <a:srgbClr val="003300"/>
                </a:solidFill>
                <a:latin typeface="Comic Sans MS"/>
              </a:rPr>
              <a:t>ön inceleme raporu”</a:t>
            </a:r>
            <a:r>
              <a:rPr b="0" lang="en-US" sz="2000" spc="-1" strike="noStrike">
                <a:solidFill>
                  <a:srgbClr val="003300"/>
                </a:solidFill>
                <a:latin typeface="Comic Sans MS"/>
              </a:rPr>
              <a:t> ile karıştırılmamalıdı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Ön raporun, soruşturma raporu yazımında esas alınan bölüm başlıkla­rına yer verilmeden düzenlenmesi mümkündü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Bu raporda, soruşturma raporunun bilahare sunulacağı belirtilmelidir. Soruşturma raporunun idari teklif bölümünde ise, ön rapordaki idari tekliften söz edilerek, bu teklifin uygulamada kalıp kalmayacağı veya yeni bir idari teklif varsa bunun niteliği belirtilmelidir. </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30A6BCE2-F8FE-4E38-9426-915CC905862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İNCELEME RAPORU</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3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Soruşturma emri verme yetkisine sahip bulunan makamın, </a:t>
            </a:r>
            <a:r>
              <a:rPr b="1" lang="en-US" sz="2000" spc="-1" strike="noStrike">
                <a:solidFill>
                  <a:srgbClr val="003300"/>
                </a:solidFill>
                <a:latin typeface="Comic Sans MS"/>
              </a:rPr>
              <a:t>“konunun incelenmesi”</a:t>
            </a:r>
            <a:r>
              <a:rPr b="1" i="1" lang="en-US" sz="2000" spc="-1" strike="noStrike">
                <a:solidFill>
                  <a:srgbClr val="003300"/>
                </a:solidFill>
                <a:latin typeface="Comic Sans MS"/>
              </a:rPr>
              <a:t> </a:t>
            </a:r>
            <a:r>
              <a:rPr b="0" lang="en-US" sz="2000" spc="-1" strike="noStrike">
                <a:solidFill>
                  <a:srgbClr val="003300"/>
                </a:solidFill>
                <a:latin typeface="Comic Sans MS"/>
              </a:rPr>
              <a:t>şeklinde verdiği emir üzerine gerekli inceleme yapılarak belgeler toplanır, gerektiğinde ilgililerin ifadelerine başvurulur, belirlenen durum ve sonuç emri veren makama sunulu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Şayet emir, </a:t>
            </a:r>
            <a:r>
              <a:rPr b="1" lang="en-US" sz="2000" spc="-1" strike="noStrike">
                <a:solidFill>
                  <a:srgbClr val="003300"/>
                </a:solidFill>
                <a:latin typeface="Comic Sans MS"/>
              </a:rPr>
              <a:t>“konunun incelenmesi ve gerektiğinde soruşturulması”</a:t>
            </a:r>
            <a:r>
              <a:rPr b="1" i="1" lang="en-US" sz="2000" spc="-1" strike="noStrike">
                <a:solidFill>
                  <a:srgbClr val="003300"/>
                </a:solidFill>
                <a:latin typeface="Comic Sans MS"/>
              </a:rPr>
              <a:t> </a:t>
            </a:r>
            <a:r>
              <a:rPr b="0" lang="en-US" sz="2000" spc="-1" strike="noStrike">
                <a:solidFill>
                  <a:srgbClr val="003300"/>
                </a:solidFill>
                <a:latin typeface="Comic Sans MS"/>
              </a:rPr>
              <a:t>şeklin­de verilmişse, bu takdirde soruşturmacı tarafından gerekli inceleme yapılır, belgeler top­lanır, gerektiğinde ilgililerin ifadelerine baş vurulur, veriler değerlendirilir, yapılan incelemelerden çıkan sonucun ileri sürülen iddianın gerçek olmadığı yönünde olma­sı halinde soruşturmaya geçilmeyerek bir inceleme raporu düzenlenmesi ile yetinilir </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FE70EF46-9981-4910-BF70-CAFA0CE4C4A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6094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ÖN İNCELEME </a:t>
            </a:r>
            <a:br>
              <a:rPr sz="3200"/>
            </a:br>
            <a:r>
              <a:rPr b="1" i="1" lang="en-US" sz="3200" spc="-1" strike="noStrike">
                <a:solidFill>
                  <a:srgbClr val="003300"/>
                </a:solidFill>
                <a:latin typeface="Comic Sans MS"/>
              </a:rPr>
              <a:t>(ADLÎ SORUŞTURMAYA ESAS İNCELEME</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316"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Ön inceleme; memurlar ve diğer kamu görevlileri hakkında, görevleri sebebiyle, TCK ve ceza hükümlü diğer kanunlarda yapılması veya yapılmaması gerekli olan fiilleri/suçları işlediklerinin öğrenilmesi üzerine, 4483 sayılı Kanunda belirtilen usul ve esaslar dahilinde, yetkili merci tarafından bizzat yapılan veya görevlendirilen ön incelemeci vasıtasıyla yaptırılan inceleme ve soruşturma çalışmalarının bütünüdür. Bu çalışmalar sonucunda “ön inceleme raporu” düzenlenir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83AE52E6-2855-4336-AE05-46947CE3F43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ÖN İNCELEME </a:t>
            </a:r>
            <a:br>
              <a:rPr sz="3200"/>
            </a:br>
            <a:r>
              <a:rPr b="1" i="1" lang="en-US" sz="3200" spc="-1" strike="noStrike">
                <a:solidFill>
                  <a:srgbClr val="003300"/>
                </a:solidFill>
                <a:latin typeface="Comic Sans MS"/>
              </a:rPr>
              <a:t>(ADLÎ SORUŞTURMAYA ESAS İNCELEME</a:t>
            </a:r>
            <a:endParaRPr b="1" i="1" lang="en-US" sz="3200" spc="-1" strike="noStrike">
              <a:solidFill>
                <a:srgbClr val="003300"/>
              </a:solidFill>
              <a:latin typeface="Comic Sans MS"/>
            </a:endParaRPr>
          </a:p>
        </p:txBody>
      </p:sp>
      <p:sp>
        <p:nvSpPr>
          <p:cNvPr id="318" name="PlaceHolder 2"/>
          <p:cNvSpPr>
            <a:spLocks noGrp="1"/>
          </p:cNvSpPr>
          <p:nvPr>
            <p:ph/>
          </p:nvPr>
        </p:nvSpPr>
        <p:spPr>
          <a:xfrm>
            <a:off x="457200" y="213336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Ön inceleme raporu, memurlar ve diğer kamu görevlilerinin, görevleri sebebiyle işledikleri suçlarda, haklarında “ceza kovuşturması” açılmadan önceki “soruşturma süreci”nde ve bu sürecin öncesinde yetkili merci tarafından alınacak kararlarda etkisi olan “görüş özetini” içeren en önemli yazılı belge konumundadır. Ön inceleme işlemi de memur ve diğer kamu görevlilerinin yargılanması süreci öncesinde yürütülen işlemlerin önemli ve ilk basamak­larından birisidir.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C8A4589F-67CC-433B-83EC-1CC4D359B6B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00"/>
                </a:solidFill>
                <a:latin typeface="Comic Sans MS"/>
              </a:rPr>
              <a:t>MEMURLAR   VE   DİĞER   KAMU   GÖREVLİLERİ   HAKKINDA SORUŞTURMA VE KOVUŞTURMAYA GEÇİLMESİNİ GEREKTİREN DURUMLAR</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3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00"/>
                </a:solidFill>
                <a:latin typeface="Comic Sans MS"/>
              </a:rPr>
              <a:t>Bir kamu görevlisi hakkında adli işleme geçilebilmesi, “</a:t>
            </a:r>
            <a:r>
              <a:rPr b="1" i="1" lang="en-US" sz="2800" spc="-1" strike="noStrike">
                <a:solidFill>
                  <a:srgbClr val="003300"/>
                </a:solidFill>
                <a:latin typeface="Comic Sans MS"/>
              </a:rPr>
              <a:t>suçun görevden doğması</a:t>
            </a:r>
            <a:r>
              <a:rPr b="0" i="1" lang="en-US" sz="2800" spc="-1" strike="noStrike">
                <a:solidFill>
                  <a:srgbClr val="003300"/>
                </a:solidFill>
                <a:latin typeface="Comic Sans MS"/>
              </a:rPr>
              <a:t>” şartına bağlıdır.</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4483 sayılı Kanunun memur ve kamu görevlilerine uygulanabilmesi için üç şartın bir arada gerçekleşmesi gerekmektedir. Bunlar da;</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Kişinin memur olması,</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Bu memurun suç işlemesi,</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Suçun görev sebebiyle işlenmesi, hususlarıdır </a:t>
            </a:r>
            <a:endParaRPr b="0" lang="en-US" sz="2800" spc="-1" strike="noStrike">
              <a:solidFill>
                <a:srgbClr val="0033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FE8ADE5F-E72D-4636-AA0C-6BE99989B49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eftiş Kurulu Tüzüğü  ve Yönetmeliği</a:t>
            </a:r>
            <a:endParaRPr b="1" i="1" lang="en-US" sz="3200" spc="-1" strike="noStrike">
              <a:solidFill>
                <a:srgbClr val="003300"/>
              </a:solidFill>
              <a:latin typeface="Comic Sans MS"/>
            </a:endParaRPr>
          </a:p>
        </p:txBody>
      </p:sp>
      <p:sp>
        <p:nvSpPr>
          <p:cNvPr id="127" name="PlaceHolder 2"/>
          <p:cNvSpPr>
            <a:spLocks noGrp="1"/>
          </p:cNvSpPr>
          <p:nvPr>
            <p:ph/>
          </p:nvPr>
        </p:nvSpPr>
        <p:spPr>
          <a:xfrm>
            <a:off x="456840" y="1980720"/>
            <a:ext cx="838188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	</a:t>
            </a:r>
            <a:r>
              <a:rPr b="0" lang="en-US" sz="3200" spc="-1" strike="noStrike">
                <a:solidFill>
                  <a:srgbClr val="003300"/>
                </a:solidFill>
                <a:latin typeface="Comic Sans MS"/>
              </a:rPr>
              <a:t>Teftiş Kurulu Tüzüğü  ve Yönetmeliğinde , teftiş kurulun görevleri, başkanın görev ve yetkileri, müfettişlerin görev ve yetkileri, atanmaları ve yetiştirilmeleri ile çalışma esas ve usullerini kapsayan hükümlere yer verilmiştir. </a:t>
            </a: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E8849AAB-8065-48F3-9018-A3E8CD2492F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6094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ÖN İNCELEME İŞLEMLERİNİN YÜRÜTÜLMESİ VE ÖN İNCELEME RAPORUNUN DÜZENLENMESİ</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322"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Hakkın korunması adaleti yaratmış olup, adalet de hukuk kuralları ile sağlanmaktadır. Adlî nitelikteki işlemlerde hukuk kurallarına ve yasalara dayalı bir çalışma yapılma­sı, dava ve cezanın sükûtu ile disiplin cezası verme yetkisi yönünden zaman aşımı­nın gözetilmesi ve önerilen tekliflerin belirlenen suçlara uygunluğu hususunda çok titiz davranılması gerekmektedir </a:t>
            </a:r>
            <a:endParaRPr b="0" lang="en-US" sz="2000" spc="-1" strike="noStrike">
              <a:solidFill>
                <a:srgbClr val="003300"/>
              </a:solidFill>
              <a:latin typeface="Comic Sans MS"/>
            </a:endParaRPr>
          </a:p>
          <a:p>
            <a:pPr marL="335880" indent="-3358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Evrak İncelenmesi, Delil Toplanması ve Değerlendirilmesi</a:t>
            </a:r>
            <a:r>
              <a:rPr b="0" lang="en-US" sz="2000" spc="-1" strike="noStrike">
                <a:solidFill>
                  <a:srgbClr val="003300"/>
                </a:solidFill>
                <a:latin typeface="Comic Sans MS"/>
              </a:rPr>
              <a:t> </a:t>
            </a:r>
            <a:endParaRPr b="0" lang="en-US" sz="2000" spc="-1" strike="noStrike">
              <a:solidFill>
                <a:srgbClr val="003300"/>
              </a:solidFill>
              <a:latin typeface="Comic Sans MS"/>
            </a:endParaRPr>
          </a:p>
          <a:p>
            <a:pPr marL="335880" indent="-3358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İfadelerin Alınması</a:t>
            </a:r>
            <a:r>
              <a:rPr b="0" lang="en-US" sz="2000" spc="-1" strike="noStrike">
                <a:solidFill>
                  <a:srgbClr val="003300"/>
                </a:solidFill>
                <a:latin typeface="Comic Sans MS"/>
              </a:rPr>
              <a:t> </a:t>
            </a:r>
            <a:endParaRPr b="0" lang="en-US" sz="2000" spc="-1" strike="noStrike">
              <a:solidFill>
                <a:srgbClr val="003300"/>
              </a:solidFill>
              <a:latin typeface="Comic Sans MS"/>
            </a:endParaRPr>
          </a:p>
          <a:p>
            <a:pPr marL="335880" indent="-3358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Sonuç Çıkarma</a:t>
            </a:r>
            <a:r>
              <a:rPr b="0" lang="en-US" sz="2000" spc="-1" strike="noStrike">
                <a:solidFill>
                  <a:srgbClr val="003300"/>
                </a:solidFill>
                <a:latin typeface="Comic Sans MS"/>
              </a:rPr>
              <a:t> </a:t>
            </a:r>
            <a:endParaRPr b="0" lang="en-US" sz="2000" spc="-1" strike="noStrike">
              <a:solidFill>
                <a:srgbClr val="003300"/>
              </a:solidFill>
              <a:latin typeface="Comic Sans MS"/>
            </a:endParaRPr>
          </a:p>
          <a:p>
            <a:pPr marL="335880" indent="-3358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Belgelerin Tasnifi</a:t>
            </a:r>
            <a:r>
              <a:rPr b="0" lang="en-US" sz="2000" spc="-1" strike="noStrike">
                <a:solidFill>
                  <a:srgbClr val="003300"/>
                </a:solidFill>
                <a:latin typeface="Comic Sans MS"/>
              </a:rPr>
              <a:t> </a:t>
            </a:r>
            <a:endParaRPr b="0" lang="en-US" sz="2000" spc="-1" strike="noStrike">
              <a:solidFill>
                <a:srgbClr val="003300"/>
              </a:solidFill>
              <a:latin typeface="Comic Sans MS"/>
            </a:endParaRPr>
          </a:p>
          <a:p>
            <a:pPr marL="335880" indent="-3358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Ön İnceleme Raporunun Yazılmasında Dikkat Edilecek Hususlar</a:t>
            </a:r>
            <a:endParaRPr b="0" lang="en-US" sz="2000" spc="-1" strike="noStrike">
              <a:solidFill>
                <a:srgbClr val="003300"/>
              </a:solidFill>
              <a:latin typeface="Comic Sans MS"/>
            </a:endParaRPr>
          </a:p>
          <a:p>
            <a:pPr marL="335880" indent="-3358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Ön İnceleme Raporunun İlgili Makama sunulması</a:t>
            </a:r>
            <a:r>
              <a:rPr b="0" lang="en-US" sz="2000" spc="-1" strike="noStrike">
                <a:solidFill>
                  <a:srgbClr val="003300"/>
                </a:solidFill>
                <a:latin typeface="Comic Sans MS"/>
              </a:rPr>
              <a:t> </a:t>
            </a:r>
            <a:endParaRPr b="0" lang="en-US" sz="2000" spc="-1" strike="noStrike">
              <a:solidFill>
                <a:srgbClr val="003300"/>
              </a:solidFill>
              <a:latin typeface="Comic Sans MS"/>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 </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69612DA9-DED8-4632-978E-13279E4E11D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00"/>
                </a:solidFill>
                <a:latin typeface="Comic Sans MS"/>
              </a:rPr>
              <a:t>Ön İnceleme Raporunun Bölümleri</a:t>
            </a:r>
            <a:endParaRPr b="1" i="1" lang="en-US" sz="3200" spc="-1" strike="noStrike">
              <a:solidFill>
                <a:srgbClr val="003300"/>
              </a:solidFill>
              <a:latin typeface="Comic Sans MS"/>
            </a:endParaRPr>
          </a:p>
        </p:txBody>
      </p:sp>
      <p:sp>
        <p:nvSpPr>
          <p:cNvPr id="3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Comic Sans MS"/>
              </a:rPr>
              <a:t>	</a:t>
            </a:r>
            <a:r>
              <a:rPr b="1" lang="en-US" sz="1800" spc="-1" strike="noStrike">
                <a:solidFill>
                  <a:srgbClr val="003300"/>
                </a:solidFill>
                <a:latin typeface="Comic Sans MS"/>
              </a:rPr>
              <a:t>	</a:t>
            </a:r>
            <a:r>
              <a:rPr b="1" lang="en-US" sz="1800" spc="-1" strike="noStrike">
                <a:solidFill>
                  <a:srgbClr val="003300"/>
                </a:solidFill>
                <a:latin typeface="Comic Sans MS"/>
              </a:rPr>
              <a:t>Ön İnceleme Raporunun Bölümleri</a:t>
            </a:r>
            <a:r>
              <a:rPr b="0" lang="en-US" sz="1800" spc="-1" strike="noStrike">
                <a:solidFill>
                  <a:srgbClr val="003300"/>
                </a:solidFill>
                <a:latin typeface="Comic Sans MS"/>
              </a:rPr>
              <a:t> :Bu raporda muhbir, müşteki, tanık ve hakkında ön inceleme yapılan kişilere ait bilgilerin, isnat olu­nan suçların, leh ve aleyhteki delillerin, suç unsurlarının oluşup oluşmadığının belli bir sıra dahilinde tahlili yapılarak, ön incelemecinin görüş ve kanaati belirtilmelidir.</a:t>
            </a:r>
            <a:endParaRPr b="0" lang="en-US" sz="1800" spc="-1" strike="noStrike">
              <a:solidFill>
                <a:srgbClr val="003300"/>
              </a:solidFill>
              <a:latin typeface="Comic Sans MS"/>
            </a:endParaRPr>
          </a:p>
          <a:p>
            <a:pPr marL="343080" indent="-3430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 </a:t>
            </a:r>
            <a:r>
              <a:rPr b="0" lang="en-US" sz="1800" spc="-1" strike="noStrike">
                <a:solidFill>
                  <a:srgbClr val="003300"/>
                </a:solidFill>
                <a:latin typeface="Comic Sans MS"/>
              </a:rPr>
              <a:t>GİRİŞ</a:t>
            </a:r>
            <a:endParaRPr b="0" lang="en-US" sz="1800" spc="-1" strike="noStrike">
              <a:solidFill>
                <a:srgbClr val="003300"/>
              </a:solidFill>
              <a:latin typeface="Comic Sans MS"/>
            </a:endParaRPr>
          </a:p>
          <a:p>
            <a:pPr marL="343080" indent="-3430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 </a:t>
            </a:r>
            <a:r>
              <a:rPr b="0" lang="en-US" sz="1800" spc="-1" strike="noStrike">
                <a:solidFill>
                  <a:srgbClr val="003300"/>
                </a:solidFill>
                <a:latin typeface="Comic Sans MS"/>
              </a:rPr>
              <a:t>İHBARCI VE ŞİKAYETÇİ</a:t>
            </a:r>
            <a:endParaRPr b="0" lang="en-US" sz="1800" spc="-1" strike="noStrike">
              <a:solidFill>
                <a:srgbClr val="003300"/>
              </a:solidFill>
              <a:latin typeface="Comic Sans MS"/>
            </a:endParaRPr>
          </a:p>
          <a:p>
            <a:pPr marL="343080" indent="-3430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 </a:t>
            </a:r>
            <a:r>
              <a:rPr b="0" lang="en-US" sz="1800" spc="-1" strike="noStrike">
                <a:solidFill>
                  <a:srgbClr val="003300"/>
                </a:solidFill>
                <a:latin typeface="Comic Sans MS"/>
              </a:rPr>
              <a:t>YETKİLİ MERCİİN ÖĞRENME TARİHİ</a:t>
            </a:r>
            <a:endParaRPr b="0" lang="en-US" sz="1800" spc="-1" strike="noStrike">
              <a:solidFill>
                <a:srgbClr val="003300"/>
              </a:solidFill>
              <a:latin typeface="Comic Sans MS"/>
            </a:endParaRPr>
          </a:p>
          <a:p>
            <a:pPr marL="343080" indent="-3430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 </a:t>
            </a:r>
            <a:r>
              <a:rPr b="0" lang="en-US" sz="1800" spc="-1" strike="noStrike">
                <a:solidFill>
                  <a:srgbClr val="003300"/>
                </a:solidFill>
                <a:latin typeface="Comic Sans MS"/>
              </a:rPr>
              <a:t>SUÇ YERİ VE TARİHİ</a:t>
            </a:r>
            <a:endParaRPr b="0" lang="en-US" sz="1800" spc="-1" strike="noStrike">
              <a:solidFill>
                <a:srgbClr val="003300"/>
              </a:solidFill>
              <a:latin typeface="Comic Sans MS"/>
            </a:endParaRPr>
          </a:p>
          <a:p>
            <a:pPr marL="343080" indent="-3430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 </a:t>
            </a:r>
            <a:r>
              <a:rPr b="0" lang="en-US" sz="1800" spc="-1" strike="noStrike">
                <a:solidFill>
                  <a:srgbClr val="003300"/>
                </a:solidFill>
                <a:latin typeface="Comic Sans MS"/>
              </a:rPr>
              <a:t>HAKKINDA ÖN İNCELEME YAPILANLAR</a:t>
            </a:r>
            <a:endParaRPr b="0" lang="en-US" sz="1800" spc="-1" strike="noStrike">
              <a:solidFill>
                <a:srgbClr val="003300"/>
              </a:solidFill>
              <a:latin typeface="Comic Sans MS"/>
            </a:endParaRPr>
          </a:p>
          <a:p>
            <a:pPr marL="343080" indent="-3430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 </a:t>
            </a:r>
            <a:r>
              <a:rPr b="0" lang="en-US" sz="1800" spc="-1" strike="noStrike">
                <a:solidFill>
                  <a:srgbClr val="003300"/>
                </a:solidFill>
                <a:latin typeface="Comic Sans MS"/>
              </a:rPr>
              <a:t>ÖN İNCELEMENİN KONUSU</a:t>
            </a:r>
            <a:endParaRPr b="0" lang="en-US" sz="1800" spc="-1" strike="noStrike">
              <a:solidFill>
                <a:srgbClr val="003300"/>
              </a:solidFill>
              <a:latin typeface="Comic Sans MS"/>
            </a:endParaRPr>
          </a:p>
          <a:p>
            <a:pPr marL="343080" indent="-3430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 </a:t>
            </a:r>
            <a:r>
              <a:rPr b="0" lang="en-US" sz="1800" spc="-1" strike="noStrike">
                <a:solidFill>
                  <a:srgbClr val="003300"/>
                </a:solidFill>
                <a:latin typeface="Comic Sans MS"/>
              </a:rPr>
              <a:t>YAPILAN ÖN İNCELEME ÇALIŞMALARI</a:t>
            </a:r>
            <a:endParaRPr b="0" lang="en-US" sz="1800" spc="-1" strike="noStrike">
              <a:solidFill>
                <a:srgbClr val="003300"/>
              </a:solidFill>
              <a:latin typeface="Comic Sans MS"/>
            </a:endParaRPr>
          </a:p>
          <a:p>
            <a:pPr marL="343080" indent="-3430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 </a:t>
            </a:r>
            <a:r>
              <a:rPr b="0" lang="en-US" sz="1800" spc="-1" strike="noStrike">
                <a:solidFill>
                  <a:srgbClr val="003300"/>
                </a:solidFill>
                <a:latin typeface="Comic Sans MS"/>
              </a:rPr>
              <a:t>BİLGİ, BELGE VE İFADELERİN  DEĞERLENDİRİLMESİ</a:t>
            </a:r>
            <a:endParaRPr b="0" lang="en-US" sz="1800" spc="-1" strike="noStrike">
              <a:solidFill>
                <a:srgbClr val="003300"/>
              </a:solidFill>
              <a:latin typeface="Comic Sans MS"/>
            </a:endParaRPr>
          </a:p>
          <a:p>
            <a:pPr marL="343080" indent="-3430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 </a:t>
            </a:r>
            <a:r>
              <a:rPr b="0" lang="en-US" sz="1800" spc="-1" strike="noStrike">
                <a:solidFill>
                  <a:srgbClr val="003300"/>
                </a:solidFill>
                <a:latin typeface="Comic Sans MS"/>
              </a:rPr>
              <a:t>SONUÇ, KANAAT VE TEKLİF</a:t>
            </a:r>
            <a:endParaRPr b="0" lang="en-US" sz="1800" spc="-1" strike="noStrike">
              <a:solidFill>
                <a:srgbClr val="003300"/>
              </a:solidFill>
              <a:latin typeface="Comic Sans MS"/>
            </a:endParaRPr>
          </a:p>
        </p:txBody>
      </p:sp>
      <p:sp>
        <p:nvSpPr>
          <p:cNvPr id="4" name="PlaceHolder 3"/>
          <p:cNvSpPr>
            <a:spLocks noGrp="1"/>
          </p:cNvSpPr>
          <p:nvPr>
            <p:ph type="sldNum" idx="2"/>
          </p:nvPr>
        </p:nvSpPr>
        <p:spPr/>
        <p:txBody>
          <a:bodyPr/>
          <a:p>
            <a:fld id="{8AB3A8D3-5DB2-4966-9691-0F48F9927DC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Ön İnceleme Raporunun Bölümleri</a:t>
            </a:r>
            <a:endParaRPr b="1" i="1" lang="en-US" sz="3600" spc="-1" strike="noStrike">
              <a:solidFill>
                <a:srgbClr val="003300"/>
              </a:solidFill>
              <a:latin typeface="Comic Sans MS"/>
            </a:endParaRPr>
          </a:p>
        </p:txBody>
      </p:sp>
      <p:sp>
        <p:nvSpPr>
          <p:cNvPr id="3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Giriş</a:t>
            </a:r>
            <a:r>
              <a:rPr b="1" i="1" lang="en-US" sz="2800" spc="-1" strike="noStrike">
                <a:solidFill>
                  <a:srgbClr val="003300"/>
                </a:solidFill>
                <a:latin typeface="Comic Sans MS"/>
              </a:rPr>
              <a:t> </a:t>
            </a:r>
            <a:r>
              <a:rPr b="1" lang="en-US" sz="2800" spc="-1" strike="noStrike">
                <a:solidFill>
                  <a:srgbClr val="003300"/>
                </a:solidFill>
                <a:latin typeface="Comic Sans MS"/>
              </a:rPr>
              <a:t>bölümünde;</a:t>
            </a:r>
            <a:r>
              <a:rPr b="0" lang="en-US" sz="2800" spc="-1" strike="noStrike">
                <a:solidFill>
                  <a:srgbClr val="003300"/>
                </a:solidFill>
                <a:latin typeface="Comic Sans MS"/>
              </a:rPr>
              <a:t> ön inceleme emrini veren veya talep eden yetkili merciin onay veya yazıları, ön incelemeciyi görevlendiren makamın onayı ve görevlendirme emirleri, hangi kurum ve kuruluşun memur ve diğer kamu görevlileri hakkında ön inceleme yapılacağına dair kısa bir açıklama ve ön inceleme çalışmaları sürecine (işe başlama-bitirme tarihlerine) yer verilmelidir.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4E368FC4-4F7E-451D-9457-5D553765B15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Ön İnceleme Raporunun Bölümleri</a:t>
            </a:r>
            <a:endParaRPr b="1" i="1" lang="en-US" sz="3600" spc="-1" strike="noStrike">
              <a:solidFill>
                <a:srgbClr val="003300"/>
              </a:solidFill>
              <a:latin typeface="Comic Sans MS"/>
            </a:endParaRPr>
          </a:p>
        </p:txBody>
      </p:sp>
      <p:sp>
        <p:nvSpPr>
          <p:cNvPr id="3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İhbarcı ve şikayetçi bölümünde;</a:t>
            </a:r>
            <a:r>
              <a:rPr b="1" i="1" lang="en-US" sz="2800" spc="-1" strike="noStrike">
                <a:solidFill>
                  <a:srgbClr val="003300"/>
                </a:solidFill>
                <a:latin typeface="Comic Sans MS"/>
              </a:rPr>
              <a:t> </a:t>
            </a:r>
            <a:r>
              <a:rPr b="0" lang="en-US" sz="2800" spc="-1" strike="noStrike">
                <a:solidFill>
                  <a:srgbClr val="003300"/>
                </a:solidFill>
                <a:latin typeface="Comic Sans MS"/>
              </a:rPr>
              <a:t>muhbir veya şikayetçinin adı-soyadı, kimliği ve adresi gibi bilgilere yer verilmelidir. Muhbir veya şikayetçi yoksa, konu denetim, inceleme gibi çalışmalar sonucunda veya doğrudan ilgili veya yetkili merciler tarafından gündeme getirilmiş ise “kamu hukuku” yazılmalıdı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61630FC2-DE14-4085-86C3-DBC1DE5F67F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Ön İnceleme Raporunun Bölümleri</a:t>
            </a:r>
            <a:endParaRPr b="1" i="1" lang="en-US" sz="3600" spc="-1" strike="noStrike">
              <a:solidFill>
                <a:srgbClr val="003300"/>
              </a:solidFill>
              <a:latin typeface="Comic Sans MS"/>
            </a:endParaRPr>
          </a:p>
        </p:txBody>
      </p:sp>
      <p:sp>
        <p:nvSpPr>
          <p:cNvPr id="3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Yetkili merciin öğrenme tarihi bölümünde; </a:t>
            </a:r>
            <a:r>
              <a:rPr b="0" lang="en-US" sz="2000" spc="-1" strike="noStrike">
                <a:solidFill>
                  <a:srgbClr val="003300"/>
                </a:solidFill>
                <a:latin typeface="Comic Sans MS"/>
              </a:rPr>
              <a:t>hakkında ön inceleme yapılan memur ve diğer kamu görevlilerinin ön inceleme yapılacak eylemlerinin yetkili merci tarafından öğrenildiği tarih yazılmalıdı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Açıklama: Ulusal yayın yapan gazete, dergi ve televizyonlardaki haberlerden öğrenilme durumunda yayımın yapıldığı gün; ihbar ve şikayet dilekçelerinden/tutanaklarından öğrenilme durumunda bu belgelerin yetkili merciin görevli olduğu kurumun genel evrakında kayıt numarası aldığı gün; genel denetim raporları veya Cumhuriyet başsavcılığı yazılarıyla veya diğer mercilerin/makamların yazılarıyla/duyurularıyla öğrenildiğinde, bu rapor ve yazıların yetkili merciin kurum kayıtlarına girdiği gün öğrenilme tarihi olarak alınmalıdı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7608A00F-0D9D-4590-8BA4-D656597D234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Ön İnceleme Raporunun Bölümleri</a:t>
            </a:r>
            <a:endParaRPr b="1" i="1" lang="en-US" sz="3600" spc="-1" strike="noStrike">
              <a:solidFill>
                <a:srgbClr val="003300"/>
              </a:solidFill>
              <a:latin typeface="Comic Sans MS"/>
            </a:endParaRPr>
          </a:p>
        </p:txBody>
      </p:sp>
      <p:sp>
        <p:nvSpPr>
          <p:cNvPr id="3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Suç yeri ve tarihi bölümüne;</a:t>
            </a:r>
            <a:r>
              <a:rPr b="0" lang="en-US" sz="2400" spc="-1" strike="noStrike">
                <a:solidFill>
                  <a:srgbClr val="003300"/>
                </a:solidFill>
                <a:latin typeface="Comic Sans MS"/>
              </a:rPr>
              <a:t> suçun işlendiği yer ve tarihi yazılmalıdır. </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Hakkında ön inceleme yapılanlar bölümünde; </a:t>
            </a:r>
            <a:r>
              <a:rPr b="0" lang="en-US" sz="2400" spc="-1" strike="noStrike">
                <a:solidFill>
                  <a:srgbClr val="003300"/>
                </a:solidFill>
                <a:latin typeface="Comic Sans MS"/>
              </a:rPr>
              <a:t>haklarında ön inceleme yapılanların açık kimlikleri, suç tarihi itibariyle görev unvanları, adresleri mutlaka yazılmalıdır. Ayrıca, halen yürüttükleri görevleri veya emekli olup olmadıkları, yaşayıp yaşamadıkları gibi bilgilerde yazılabilir.</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Ön incelemenin konusu bölümünde;</a:t>
            </a:r>
            <a:r>
              <a:rPr b="0" lang="en-US" sz="2400" spc="-1" strike="noStrike">
                <a:solidFill>
                  <a:srgbClr val="003300"/>
                </a:solidFill>
                <a:latin typeface="Comic Sans MS"/>
              </a:rPr>
              <a:t> yetkili merciin ön inceleme emrinde/onayında yer alan ve ön inceleme yapılması istenilen konular/id­dialar aynen yazılmalıdı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799CAFF7-CF66-4050-91E1-9408700251E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Ön İnceleme Raporunun Bölümleri</a:t>
            </a:r>
            <a:endParaRPr b="1" i="1" lang="en-US" sz="3600" spc="-1" strike="noStrike">
              <a:solidFill>
                <a:srgbClr val="003300"/>
              </a:solidFill>
              <a:latin typeface="Comic Sans MS"/>
            </a:endParaRPr>
          </a:p>
        </p:txBody>
      </p:sp>
      <p:sp>
        <p:nvSpPr>
          <p:cNvPr id="3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Yapılan ön inceleme çalışmaları bölümünde; </a:t>
            </a:r>
            <a:r>
              <a:rPr b="0" lang="en-US" sz="2800" spc="-1" strike="noStrike">
                <a:solidFill>
                  <a:srgbClr val="003300"/>
                </a:solidFill>
                <a:latin typeface="Comic Sans MS"/>
              </a:rPr>
              <a:t>ön inceleme konuları ile ilgili olarak yapılan çalışmalar (incelenen ve alınan belgeler, elde edilen bilgiler, varsa ihbar edenin, varsa müştekinin, tanıkların ve haklarında ön inceleme yapılan memurların ve diğer kamu görevlilerinin ifadeleri ya da ifade muhtevasını içerecek şekilde ifade özetleri, konulara yönelik ilgili mevzuatın neler olduğu) alt bölümler, maddeler halinde açıklanmalıdır.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803EB747-BB11-49CE-9663-B829360D10A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Ön İnceleme Raporunun Bölümleri</a:t>
            </a:r>
            <a:endParaRPr b="1" i="1" lang="en-US" sz="3600" spc="-1" strike="noStrike">
              <a:solidFill>
                <a:srgbClr val="003300"/>
              </a:solidFill>
              <a:latin typeface="Comic Sans MS"/>
            </a:endParaRPr>
          </a:p>
        </p:txBody>
      </p:sp>
      <p:sp>
        <p:nvSpPr>
          <p:cNvPr id="3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Bilgi, belge ve ifadelerin değerlendirilmesi bölümünde;</a:t>
            </a:r>
            <a:r>
              <a:rPr b="0" lang="en-US" sz="2000" spc="-1" strike="noStrike">
                <a:solidFill>
                  <a:srgbClr val="003300"/>
                </a:solidFill>
                <a:latin typeface="Comic Sans MS"/>
              </a:rPr>
              <a:t> ön inceleme konularının 4483 sayılı Kanun kapsamında bir eylem/suç olup olmadığı, suçun unsurları itibariyle oluşup oluşmadığı  hususları,  alınan  ifadelerden, incelenen  belgelerden ve elde  edilen  bilgilerden ortaya çıkan veriler esas alınarak ilgili mevzuata göre maddeler halinde irdelenmeli ve değerlendirilmelidir. Ulaşılan so­nuçlardan söz edilerek, oluşan suç var ise niteliği açıklığa kavuşturulmalı, “soruşturma izni verilmesi” gerektiği “görüş ve kanaat” içerisinde belirtilmelidir. Suçun tüm unsurları itibariyle oluşmadığı sonucuna ulaşılmış ise “soruşturma izni verilmemesi” gerektiği belirtilmelidir. </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BD0670CC-366C-4CEF-BD19-B349B56D7F1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Ön İnceleme Raporunun Bölümleri</a:t>
            </a:r>
            <a:endParaRPr b="1" i="1" lang="en-US" sz="3600" spc="-1" strike="noStrike">
              <a:solidFill>
                <a:srgbClr val="003300"/>
              </a:solidFill>
              <a:latin typeface="Comic Sans MS"/>
            </a:endParaRPr>
          </a:p>
        </p:txBody>
      </p:sp>
      <p:sp>
        <p:nvSpPr>
          <p:cNvPr id="3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Sonuç, kanaat ve teklif</a:t>
            </a:r>
            <a:r>
              <a:rPr b="0" lang="en-US" sz="2000" spc="-1" strike="noStrike">
                <a:solidFill>
                  <a:srgbClr val="003300"/>
                </a:solidFill>
                <a:latin typeface="Comic Sans MS"/>
              </a:rPr>
              <a:t> </a:t>
            </a:r>
            <a:r>
              <a:rPr b="1" lang="en-US" sz="2000" spc="-1" strike="noStrike">
                <a:solidFill>
                  <a:srgbClr val="003300"/>
                </a:solidFill>
                <a:latin typeface="Comic Sans MS"/>
              </a:rPr>
              <a:t>bölümünde;</a:t>
            </a:r>
            <a:r>
              <a:rPr b="0" lang="en-US" sz="2000" spc="-1" strike="noStrike">
                <a:solidFill>
                  <a:srgbClr val="003300"/>
                </a:solidFill>
                <a:latin typeface="Comic Sans MS"/>
              </a:rPr>
              <a:t> önceki bölümde yapılan açıklamalar ve ortaya konulan görüş ve kanaatler esas alınarak,  haklarında ön inceleme yapılanların, ön inceleme konuları bağlamında, TCK ve diğer ceza hükümlü kanunlar yönünden suçlarının oluşup oluşmadığı “ulaşılan sonuç, görüş ve kanaat” olarak ortaya konulmalıdır. Kesin ve açık bir anlatımla, haklarında ön inceleme yapılanlar hakkında ileri sürülen suçlardan hangilerinin kesinlik kazanıp kazanmadığı, hangi eylemlerle ilgili olduğu belirtilerek; yetkili merciin, hangi görevliler hakkında, “soruşturma izni verilmesi kararı” ya da “soruşturma izni verilmemesi kararı” almasının uygun olaca­ğı “teklifler” halinde ifadelendirilmelidir. </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D9FDDBFC-4FF7-44B7-86FB-57192EB71BB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68544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00"/>
                </a:solidFill>
                <a:latin typeface="Comic Sans MS"/>
              </a:rPr>
              <a:t>Ön İnceleme Raporunun İlgili Makama sunulması</a:t>
            </a:r>
            <a:br>
              <a:rPr sz="3200"/>
            </a:br>
            <a:endParaRPr b="1" i="1" lang="en-US" sz="3200" spc="-1" strike="noStrike">
              <a:solidFill>
                <a:srgbClr val="003300"/>
              </a:solidFill>
              <a:latin typeface="Comic Sans MS"/>
            </a:endParaRPr>
          </a:p>
        </p:txBody>
      </p:sp>
      <p:sp>
        <p:nvSpPr>
          <p:cNvPr id="3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Comic Sans MS"/>
              </a:rPr>
              <a:t>	</a:t>
            </a:r>
            <a:endParaRPr b="0" lang="en-US" sz="1600" spc="-1" strike="noStrike">
              <a:solidFill>
                <a:srgbClr val="003300"/>
              </a:solidFill>
              <a:latin typeface="Comic Sans MS"/>
            </a:endParaRPr>
          </a:p>
          <a:p>
            <a:pPr marL="343080" indent="-343080">
              <a:lnSpc>
                <a:spcPct val="80000"/>
              </a:lnSpc>
              <a:spcBef>
                <a:spcPts val="4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Comic Sans MS"/>
              </a:rPr>
              <a:t>Ön inceleme raporu; 4483 sayılı Kanunun 7. maddesi ile getirilen süre ve ek süre (30+15 gün) dikkate alınmak suretiyle en seri biçimde tamamlanmalı, ikisi belgeli olmak üzere asgari üç nüsha olarak düzenlenmelidir. Rapora ‘ön inceleme ra­por kapağı’ ve ‘dizi pusulası’ eklenmelidir.Ön inceleme raporunun, ön inceleme emrini/onayını veren yetkili mercie sunulması esastır.  </a:t>
            </a:r>
            <a:endParaRPr b="0" lang="en-US" sz="1600" spc="-1" strike="noStrike">
              <a:solidFill>
                <a:srgbClr val="003300"/>
              </a:solidFill>
              <a:latin typeface="Comic Sans MS"/>
            </a:endParaRPr>
          </a:p>
          <a:p>
            <a:pPr marL="343080" indent="-343080">
              <a:lnSpc>
                <a:spcPct val="80000"/>
              </a:lnSpc>
              <a:spcBef>
                <a:spcPts val="4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Comic Sans MS"/>
              </a:rPr>
              <a:t>Ön inceleme emrini/onayını veren yetkili merciin vali olduğu durumlarda, eğer karar alacak yetkili merci kaymakam ise, valiye tevdi edilen ön inceleme raporunun valilik tarafından kaymakamlığa gönderilmesi gerekmektedir. </a:t>
            </a:r>
            <a:endParaRPr b="0" lang="en-US" sz="1600" spc="-1" strike="noStrike">
              <a:solidFill>
                <a:srgbClr val="003300"/>
              </a:solidFill>
              <a:latin typeface="Comic Sans MS"/>
            </a:endParaRPr>
          </a:p>
          <a:p>
            <a:pPr marL="343080" indent="-343080">
              <a:lnSpc>
                <a:spcPct val="80000"/>
              </a:lnSpc>
              <a:spcBef>
                <a:spcPts val="4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Comic Sans MS"/>
              </a:rPr>
              <a:t> </a:t>
            </a:r>
            <a:r>
              <a:rPr b="0" lang="en-US" sz="1600" spc="-1" strike="noStrike">
                <a:solidFill>
                  <a:srgbClr val="003300"/>
                </a:solidFill>
                <a:latin typeface="Comic Sans MS"/>
              </a:rPr>
              <a:t>Bakanlık Müfettişlerince hazırlanan ön inceleme raporları; ön inceme emri/onayı yetkili merci olarak Bakanlık Makamınca verilmiş ise Bakana sunulmak üzere, ön inceleme yapılmasını diğer yetkili merciler (en üst idari amir/müsteşar, vali, kaymakam)   talep etmiş ise bu mercilere tevdi edilmek üzere Teftiş Kurulu Başkanlığına sunulmalıdır. Acil ve gerekli durumlarda, Başkanlığın bilgisi dahilinde, ön inceleme raporlarının doğrudan yetkili mercie sunulması da mümkündür.</a:t>
            </a:r>
            <a:endParaRPr b="0" lang="en-US" sz="1600" spc="-1" strike="noStrike">
              <a:solidFill>
                <a:srgbClr val="003300"/>
              </a:solidFill>
              <a:latin typeface="Comic Sans MS"/>
            </a:endParaRPr>
          </a:p>
          <a:p>
            <a:pPr marL="343080" indent="-343080">
              <a:lnSpc>
                <a:spcPct val="80000"/>
              </a:lnSpc>
              <a:spcBef>
                <a:spcPts val="4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Comic Sans MS"/>
              </a:rPr>
              <a:t>Ön inceleme çalışmasının her aşamasında gizliliğe gerekli özen gösterilmeli, alınan ifadelerin örnekleri sahiplerine verilmemelidir. </a:t>
            </a:r>
            <a:endParaRPr b="0" lang="en-US" sz="1600" spc="-1" strike="noStrike">
              <a:solidFill>
                <a:srgbClr val="003300"/>
              </a:solidFill>
              <a:latin typeface="Comic Sans MS"/>
            </a:endParaRPr>
          </a:p>
        </p:txBody>
      </p:sp>
      <p:sp>
        <p:nvSpPr>
          <p:cNvPr id="4" name="PlaceHolder 3"/>
          <p:cNvSpPr>
            <a:spLocks noGrp="1"/>
          </p:cNvSpPr>
          <p:nvPr>
            <p:ph type="sldNum" idx="2"/>
          </p:nvPr>
        </p:nvSpPr>
        <p:spPr/>
        <p:txBody>
          <a:bodyPr/>
          <a:p>
            <a:fld id="{303A7696-59B1-46F9-BC4D-F8C64B15F55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eftiş Planlarının Türleri</a:t>
            </a:r>
            <a:endParaRPr b="1" i="1" lang="en-US" sz="3200" spc="-1" strike="noStrike">
              <a:solidFill>
                <a:srgbClr val="003300"/>
              </a:solidFill>
              <a:latin typeface="Comic Sans MS"/>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  </a:t>
            </a:r>
            <a:r>
              <a:rPr b="0" lang="en-US" sz="3200" spc="-1" strike="noStrike">
                <a:solidFill>
                  <a:srgbClr val="003300"/>
                </a:solidFill>
                <a:latin typeface="Comic Sans MS"/>
              </a:rPr>
              <a:t>MEB Teftişi Kurulu Başkanlığı ile  illerde Eğitim Müfettişleri Başkanlıklarınca hazırlanan planlar ;</a:t>
            </a:r>
            <a:endParaRPr b="0" lang="en-US" sz="3200" spc="-1" strike="noStrike">
              <a:solidFill>
                <a:srgbClr val="003300"/>
              </a:solidFill>
              <a:latin typeface="Comic Sans MS"/>
            </a:endParaRPr>
          </a:p>
          <a:p>
            <a:pPr marL="343080" indent="-34308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Başkanlık</a:t>
            </a:r>
            <a:endParaRPr b="0" lang="en-US" sz="3200" spc="-1" strike="noStrike">
              <a:solidFill>
                <a:srgbClr val="003300"/>
              </a:solidFill>
              <a:latin typeface="Comic Sans MS"/>
            </a:endParaRPr>
          </a:p>
          <a:p>
            <a:pPr marL="343080" indent="-34308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Grup Başkanlığı </a:t>
            </a:r>
            <a:endParaRPr b="0" lang="en-US" sz="3200" spc="-1" strike="noStrike">
              <a:solidFill>
                <a:srgbClr val="003300"/>
              </a:solidFill>
              <a:latin typeface="Comic Sans MS"/>
            </a:endParaRPr>
          </a:p>
          <a:p>
            <a:pPr marL="343080" indent="-34308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Müfettişler düzeyinde</a:t>
            </a:r>
            <a:endParaRPr b="0" lang="en-US" sz="3200" spc="-1" strike="noStrike">
              <a:solidFill>
                <a:srgbClr val="0033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   </a:t>
            </a:r>
            <a:r>
              <a:rPr b="0" lang="en-US" sz="3200" spc="-1" strike="noStrike">
                <a:solidFill>
                  <a:srgbClr val="003300"/>
                </a:solidFill>
                <a:latin typeface="Comic Sans MS"/>
              </a:rPr>
              <a:t>üç kısma ayrılır.</a:t>
            </a:r>
            <a:endParaRPr b="0" lang="en-US" sz="3200" spc="-1" strike="noStrike">
              <a:solidFill>
                <a:srgbClr val="0033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C1DBA023-8D32-40A0-87A3-8957386E3F7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ANIKLIK</a:t>
            </a:r>
            <a:endParaRPr b="1" i="1" lang="en-US" sz="3200" spc="-1" strike="noStrike">
              <a:solidFill>
                <a:srgbClr val="003300"/>
              </a:solidFill>
              <a:latin typeface="Comic Sans MS"/>
            </a:endParaRPr>
          </a:p>
        </p:txBody>
      </p:sp>
      <p:sp>
        <p:nvSpPr>
          <p:cNvPr id="3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Gerek adlî, gerekse idarî işlemlerde, olayın aydınlığa kavuşturulması bakımından, tanık ifadeleri büyük önem taşır. Yürütülen inceleme ve soruşturmalarda, konu hakkında bilgisi bulunan kişi­ler belirlenerek, gördüklerini ve duyduklarını belirtmeleri bakımından tanıklıklarına başvurulması, yasal bir gereklilikti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Tanıklık, adaletin tecellisine imkan verme, haklı ve haksızın belirlenerek ger­çeğin ortaya çıkması bakımlarından kutsaldır. İncelemecinin-soruşturmacının, ön incelemecinin bu durumu dikkate ala­rak yeterli sayıda tanık dinlemek ve gerektiğinde görevinin önemini tanığa da bizzat hissettirerek işlemlerini sağlıklı şekilde sonuçlandırması gereki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5AE77C58-762F-4E82-B18F-531BEEDA05F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ANIKLIK</a:t>
            </a:r>
            <a:endParaRPr b="1" i="1" lang="en-US" sz="3200" spc="-1" strike="noStrike">
              <a:solidFill>
                <a:srgbClr val="003300"/>
              </a:solidFill>
              <a:latin typeface="Comic Sans MS"/>
            </a:endParaRPr>
          </a:p>
        </p:txBody>
      </p:sp>
      <p:sp>
        <p:nvSpPr>
          <p:cNvPr id="3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00"/>
                </a:solidFill>
                <a:latin typeface="Comic Sans MS"/>
              </a:rPr>
              <a:t>	</a:t>
            </a:r>
            <a:r>
              <a:rPr b="1" lang="tr-TR" sz="1800" spc="-1" strike="noStrike">
                <a:solidFill>
                  <a:srgbClr val="003300"/>
                </a:solidFill>
                <a:latin typeface="Comic Sans MS"/>
              </a:rPr>
              <a:t>Tanıkların Çağrılması:</a:t>
            </a:r>
            <a:endParaRPr b="0" lang="en-US" sz="1800" spc="-1" strike="noStrike">
              <a:solidFill>
                <a:srgbClr val="003300"/>
              </a:solidFill>
              <a:latin typeface="Comic Sans MS"/>
            </a:endParaRPr>
          </a:p>
          <a:p>
            <a:pPr marL="335880" indent="-3358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00"/>
                </a:solidFill>
                <a:latin typeface="Comic Sans MS"/>
              </a:rPr>
              <a:t>Tanıkların çağrılması ile ilgili hususlar CMK’nın 43 ve 44. maddelerin­de esasa bağlanmıştır.</a:t>
            </a:r>
            <a:endParaRPr b="0" lang="en-US" sz="1800" spc="-1" strike="noStrike">
              <a:solidFill>
                <a:srgbClr val="003300"/>
              </a:solidFill>
              <a:latin typeface="Comic Sans MS"/>
            </a:endParaRPr>
          </a:p>
          <a:p>
            <a:pPr marL="335880" indent="-3358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00"/>
                </a:solidFill>
                <a:latin typeface="Comic Sans MS"/>
              </a:rPr>
              <a:t>İnceleme/soruşturma konusu olayla ilgili bilgileri olduğu dikkate alınarak dinlenilmesine gerek duyulan kişilere, önceden ya doğrudan doğruya kendilerine ya da dairelerinin amirleri vasıtasıyla bir konuda görüşülmek istendiği ve hangi saatte nerede hazır bulunmaları gerektiği duyurulur.</a:t>
            </a:r>
            <a:endParaRPr b="0" lang="en-US" sz="1800" spc="-1" strike="noStrike">
              <a:solidFill>
                <a:srgbClr val="003300"/>
              </a:solidFill>
              <a:latin typeface="Comic Sans MS"/>
            </a:endParaRPr>
          </a:p>
          <a:p>
            <a:pPr marL="335880" indent="-3358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00"/>
                </a:solidFill>
                <a:latin typeface="Comic Sans MS"/>
              </a:rPr>
              <a:t>Tanığın gelmemesi durumunda, CMK’nın 43. maddesi uyarınca tanığın </a:t>
            </a:r>
            <a:r>
              <a:rPr b="0" i="1" lang="tr-TR" sz="1800" spc="-1" strike="noStrike">
                <a:solidFill>
                  <a:srgbClr val="003300"/>
                </a:solidFill>
                <a:latin typeface="Comic Sans MS"/>
              </a:rPr>
              <a:t>“çağrı kağıdı” </a:t>
            </a:r>
            <a:r>
              <a:rPr b="0" lang="tr-TR" sz="1800" spc="-1" strike="noStrike">
                <a:solidFill>
                  <a:srgbClr val="003300"/>
                </a:solidFill>
                <a:latin typeface="Comic Sans MS"/>
              </a:rPr>
              <a:t>ile çağrılması ve gelmemenin sonuçları çağrı kağıdında gösterilerek ya görevlendirilen bir memur aracılığı ya da iadeli taahhütlü ol­mak kaydıyla posta aracılığı ile de gönderilir. Karar yazısında bu yoldan getirilmenin nedenleri gösterilir ve bunlara çağrı kâğıdı ile gelen tanıklar hakkındaki işlem uygulanır. Bu çağrı telefon, telgraf, faks, elektronik posta gibi araçlardan yararlanılmak suretiyle de yapılabilir. Ancak, çağrı kâğıdına bağlanan sonuçlar, bu durumda uygulanmaz. </a:t>
            </a:r>
            <a:endParaRPr b="0" lang="en-US" sz="1800" spc="-1" strike="noStrike">
              <a:solidFill>
                <a:srgbClr val="003300"/>
              </a:solidFill>
              <a:latin typeface="Comic Sans MS"/>
            </a:endParaRPr>
          </a:p>
        </p:txBody>
      </p:sp>
      <p:sp>
        <p:nvSpPr>
          <p:cNvPr id="4" name="PlaceHolder 3"/>
          <p:cNvSpPr>
            <a:spLocks noGrp="1"/>
          </p:cNvSpPr>
          <p:nvPr>
            <p:ph type="sldNum" idx="2"/>
          </p:nvPr>
        </p:nvSpPr>
        <p:spPr/>
        <p:txBody>
          <a:bodyPr/>
          <a:p>
            <a:fld id="{413A4472-5EC9-4EAE-B63A-61218865386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ANIKLIK</a:t>
            </a:r>
            <a:endParaRPr b="1" i="1" lang="en-US" sz="3200" spc="-1" strike="noStrike">
              <a:solidFill>
                <a:srgbClr val="003300"/>
              </a:solidFill>
              <a:latin typeface="Comic Sans MS"/>
            </a:endParaRPr>
          </a:p>
        </p:txBody>
      </p:sp>
      <p:sp>
        <p:nvSpPr>
          <p:cNvPr id="3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Usulüne uygun olarak çağrılıp da mazeretini bildirmeksizin gelmeyen tanıklar zorla getirilir Bu durum bir tutanakla tespit edildikten sonra, resmi yazı ile gereği için bizzat soruşturmacı tarafından o yerin mülki amirine veya bilgisi dahilinde emniyet müdürlüğüne verilerek tanığın getiril­mesi sağlanır.</a:t>
            </a:r>
            <a:endParaRPr b="0" lang="en-US" sz="3200" spc="-1" strike="noStrike">
              <a:solidFill>
                <a:srgbClr val="0033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0633E0E8-2F8F-439E-B0D0-0ACF3349B24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ANIKLIK</a:t>
            </a:r>
            <a:endParaRPr b="1" i="1" lang="en-US" sz="3200" spc="-1" strike="noStrike">
              <a:solidFill>
                <a:srgbClr val="003300"/>
              </a:solidFill>
              <a:latin typeface="Comic Sans MS"/>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Comic Sans MS"/>
              </a:rPr>
              <a:t>	</a:t>
            </a:r>
            <a:r>
              <a:rPr b="1" lang="en-US" sz="1800" spc="-1" strike="noStrike">
                <a:solidFill>
                  <a:srgbClr val="003300"/>
                </a:solidFill>
                <a:latin typeface="Comic Sans MS"/>
              </a:rPr>
              <a:t>Tanıklıktan Çekinme Halleri ve Yemin</a:t>
            </a:r>
            <a:r>
              <a:rPr b="0" lang="en-US" sz="1800" spc="-1" strike="noStrike">
                <a:solidFill>
                  <a:srgbClr val="003300"/>
                </a:solidFill>
                <a:latin typeface="Comic Sans MS"/>
              </a:rPr>
              <a:t> </a:t>
            </a:r>
            <a:endParaRPr b="0" lang="en-US" sz="1800" spc="-1" strike="noStrike">
              <a:solidFill>
                <a:srgbClr val="003300"/>
              </a:solidFill>
              <a:latin typeface="Comic Sans MS"/>
            </a:endParaRPr>
          </a:p>
          <a:p>
            <a:pPr marL="343080" indent="-3430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Ön inceleme ve idari soruşturmalarda da şüpheli veya sanığın nişanlısı, evlilik bağı kalmasa bile karısı veya kocası, şüpheli veya sanığın kan hısımlığından veya kayın hısımlığından üstsoy veya altsoyu, şüpheli veya sanığın üçüncü derece dahil kan veya ikinci derece dahil kayın hısımları, şüpheli veya sanıkla aralarında evlâtlık bağı bulunanların tanıklıktan çekinme taleplerine uyulması uygun olacaktır. </a:t>
            </a:r>
            <a:endParaRPr b="0" lang="en-US" sz="1800" spc="-1" strike="noStrike">
              <a:solidFill>
                <a:srgbClr val="003300"/>
              </a:solidFill>
              <a:latin typeface="Comic Sans MS"/>
            </a:endParaRPr>
          </a:p>
          <a:p>
            <a:pPr marL="343080" indent="-3430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Yaş küçüklüğü, akıl hastalığı veya akıl zayıflığı nedeniyle tanıklıktan çekinmenin önemini anlayabilecek durumda olmayanlar, kanunî temsilcilerinin rızalarıyla tanık olarak dinlenebilirler. Kanunî temsilci şüpheli veya sanık ise, bu kişilerin çekinmeleri konusunda karar veremez.</a:t>
            </a:r>
            <a:endParaRPr b="0" lang="en-US" sz="1800" spc="-1" strike="noStrike">
              <a:solidFill>
                <a:srgbClr val="003300"/>
              </a:solidFill>
              <a:latin typeface="Comic Sans MS"/>
            </a:endParaRPr>
          </a:p>
          <a:p>
            <a:pPr marL="343080" indent="-3430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 </a:t>
            </a:r>
            <a:r>
              <a:rPr b="0" lang="en-US" sz="1800" spc="-1" strike="noStrike">
                <a:solidFill>
                  <a:srgbClr val="003300"/>
                </a:solidFill>
                <a:latin typeface="Comic Sans MS"/>
              </a:rPr>
              <a:t>Tanıklıktan çekinebilecek olan kimselere, dinlenmeden önce tanıklıktan çekinebilecekleri bildirilir. Bu kimseler, dinlenirken de her zaman tanıklıktan çekinebilirler. </a:t>
            </a:r>
            <a:endParaRPr b="0" lang="en-US" sz="1800" spc="-1" strike="noStrike">
              <a:solidFill>
                <a:srgbClr val="003300"/>
              </a:solidFill>
              <a:latin typeface="Comic Sans MS"/>
            </a:endParaRPr>
          </a:p>
        </p:txBody>
      </p:sp>
      <p:sp>
        <p:nvSpPr>
          <p:cNvPr id="4" name="PlaceHolder 3"/>
          <p:cNvSpPr>
            <a:spLocks noGrp="1"/>
          </p:cNvSpPr>
          <p:nvPr>
            <p:ph type="sldNum" idx="2"/>
          </p:nvPr>
        </p:nvSpPr>
        <p:spPr/>
        <p:txBody>
          <a:bodyPr/>
          <a:p>
            <a:fld id="{872F4C3B-CA22-4DC3-BC0C-0A7D91202B5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ANIKLIK</a:t>
            </a:r>
            <a:endParaRPr b="1" i="1" lang="en-US" sz="3200" spc="-1" strike="noStrike">
              <a:solidFill>
                <a:srgbClr val="003300"/>
              </a:solidFill>
              <a:latin typeface="Comic Sans MS"/>
            </a:endParaRPr>
          </a:p>
        </p:txBody>
      </p:sp>
      <p:sp>
        <p:nvSpPr>
          <p:cNvPr id="3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Meslekleri ve sürekli uğraşıları sebebiyle tanıklıktan çekinebilecekler ile çekinme konu ve koşulları da şunlardır: a) Avukatlar veya stajyerleri veya yardımcılarının, bu sıfatları dolayısıyla veya yüklendikleri yargı görevi sebebiyle öğrendikleri bilgiler. b) Hekimler, diş hekimleri, eczacılar, ebeler ve bunların yardımcıları ve diğer bütün tıp meslek veya sanatları mensuplarının, bu sıfatları dolayısıyla hastaları ve bunların yakınları hakkında öğrendikleri bilgiler. c) Malî işlerde görevlendirilmiş müşavirler ve noterlerin bu sıfatları dolayısıyla hizmet verdikleri kişiler hakkında öğrendikleri bilgiler. (a) bendinde belirtilenler dışında kalan kişiler, ilgilinin rızasının varlığı halinde, tanıklıktan çekinemez. </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DD212004-2A5E-485D-B5A1-9E8C56F25C2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ANIKLIK</a:t>
            </a:r>
            <a:endParaRPr b="1" i="1" lang="en-US" sz="3200" spc="-1" strike="noStrike">
              <a:solidFill>
                <a:srgbClr val="003300"/>
              </a:solidFill>
              <a:latin typeface="Comic Sans MS"/>
            </a:endParaRPr>
          </a:p>
        </p:txBody>
      </p:sp>
      <p:sp>
        <p:nvSpPr>
          <p:cNvPr id="3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00"/>
                </a:solidFill>
                <a:latin typeface="Comic Sans MS"/>
              </a:rPr>
              <a:t>	</a:t>
            </a:r>
            <a:r>
              <a:rPr b="1" lang="tr-TR" sz="2000" spc="-1" strike="noStrike">
                <a:solidFill>
                  <a:srgbClr val="003300"/>
                </a:solidFill>
                <a:latin typeface="Comic Sans MS"/>
              </a:rPr>
              <a:t>Tanık ve Bilirkişi Yemin Metni:</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00"/>
                </a:solidFill>
                <a:latin typeface="Comic Sans MS"/>
              </a:rPr>
              <a:t>Tanık yemini</a:t>
            </a:r>
            <a:r>
              <a:rPr b="0" lang="tr-TR" sz="2000" spc="-1" strike="noStrike">
                <a:solidFill>
                  <a:srgbClr val="003300"/>
                </a:solidFill>
                <a:latin typeface="Comic Sans MS"/>
              </a:rPr>
              <a:t>;</a:t>
            </a:r>
            <a:r>
              <a:rPr b="0" i="1" lang="tr-TR" sz="2000" spc="-1" strike="noStrike">
                <a:solidFill>
                  <a:srgbClr val="003300"/>
                </a:solidFill>
                <a:latin typeface="Comic Sans MS"/>
              </a:rPr>
              <a:t> </a:t>
            </a:r>
            <a:r>
              <a:rPr b="0" lang="tr-TR" sz="2000" spc="-1" strike="noStrike">
                <a:solidFill>
                  <a:srgbClr val="003300"/>
                </a:solidFill>
                <a:latin typeface="Comic Sans MS"/>
              </a:rPr>
              <a:t>CMK’nın 55. maddesinde belirtildiği üzere, ayağa kalkılarak, tanıklıktan önce </a:t>
            </a:r>
            <a:r>
              <a:rPr b="1" i="1" lang="tr-TR" sz="2000" spc="-1" strike="noStrike">
                <a:solidFill>
                  <a:srgbClr val="003300"/>
                </a:solidFill>
                <a:latin typeface="Comic Sans MS"/>
              </a:rPr>
              <a:t>"Bildiğimi dosdoğru söyleyeceğime namusum ve vicdanım üzerine yemin ederim."</a:t>
            </a:r>
            <a:r>
              <a:rPr b="0" lang="tr-TR" sz="2000" spc="-1" strike="noStrike">
                <a:solidFill>
                  <a:srgbClr val="003300"/>
                </a:solidFill>
                <a:latin typeface="Comic Sans MS"/>
              </a:rPr>
              <a:t> biçiminde olur. Bir kimsenin tanık sıfatıyla dinlenilmesinin uygun olup olmadığında tereddüt varsa yemin tanıklıktan sonraya bırakılabilir. Bu durumda, yemin </a:t>
            </a:r>
            <a:r>
              <a:rPr b="1" i="1" lang="tr-TR" sz="2000" spc="-1" strike="noStrike">
                <a:solidFill>
                  <a:srgbClr val="003300"/>
                </a:solidFill>
                <a:latin typeface="Comic Sans MS"/>
              </a:rPr>
              <a:t>"Bildiğimi dosdoğru söylediğime namusum ve vicdanım üzerine yemin ederim."</a:t>
            </a:r>
            <a:r>
              <a:rPr b="0" lang="tr-TR" sz="2000" spc="-1" strike="noStrike">
                <a:solidFill>
                  <a:srgbClr val="003300"/>
                </a:solidFill>
                <a:latin typeface="Comic Sans MS"/>
              </a:rPr>
              <a:t> şeklinde olu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00"/>
                </a:solidFill>
                <a:latin typeface="Comic Sans MS"/>
              </a:rPr>
              <a:t>Bilirkişi yemini;</a:t>
            </a:r>
            <a:r>
              <a:rPr b="0" lang="tr-TR" sz="2000" spc="-1" strike="noStrike">
                <a:solidFill>
                  <a:srgbClr val="003300"/>
                </a:solidFill>
                <a:latin typeface="Comic Sans MS"/>
              </a:rPr>
              <a:t> CMK’nın 64/5-6. maddesinde, </a:t>
            </a:r>
            <a:r>
              <a:rPr b="1" i="1" lang="tr-TR" sz="2000" spc="-1" strike="noStrike">
                <a:solidFill>
                  <a:srgbClr val="003300"/>
                </a:solidFill>
                <a:latin typeface="Comic Sans MS"/>
              </a:rPr>
              <a:t>“Görevimi adalete bağlı kalarak, bilim ve fenne uygun olarak, tarafsızlıkla yerine getireceğime namusum ve vicdanım üzerine yemin ederim."</a:t>
            </a:r>
            <a:r>
              <a:rPr b="0" lang="tr-TR" sz="2000" spc="-1" strike="noStrike">
                <a:solidFill>
                  <a:srgbClr val="003300"/>
                </a:solidFill>
                <a:latin typeface="Comic Sans MS"/>
              </a:rPr>
              <a:t>  şeklinde düzenlenmişti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B39EBE55-79D2-4FEB-A3D9-DD009781022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KAMU DAVASINI ORTADAN KALDIRAN SEBEPLER</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3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Sanığın veya hükümlünün ölümü</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0" lang="en-US" sz="2800" spc="-1" strike="noStrike">
                <a:solidFill>
                  <a:srgbClr val="003300"/>
                </a:solidFill>
                <a:latin typeface="Comic Sans MS"/>
              </a:rPr>
              <a:t>Genel af </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Zamanaşımı </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Suçtan zarar gören kimsenin şikayetinden vazgeçmesi </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Kaziye-i muhkeme (kesin hüküm </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Diplomasi dokunulmazlığı </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Ön ödeme </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Uzlaşma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0FD4448F-568F-4E55-B98A-686BA116B23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00"/>
                </a:solidFill>
                <a:latin typeface="Comic Sans MS"/>
              </a:rPr>
              <a:t>YARARLANILAN KAYNAKLAR</a:t>
            </a:r>
            <a:endParaRPr b="1" i="1" lang="en-US" sz="4000" spc="-1" strike="noStrike">
              <a:solidFill>
                <a:srgbClr val="003300"/>
              </a:solidFill>
              <a:latin typeface="Comic Sans MS"/>
            </a:endParaRPr>
          </a:p>
        </p:txBody>
      </p:sp>
      <p:sp>
        <p:nvSpPr>
          <p:cNvPr id="3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MEB Teftiş Kurulu Başkanlığı İnceleme Soruşturma ve Ön inceleme Rehberi</a:t>
            </a:r>
            <a:endParaRPr b="0" lang="en-US" sz="3200" spc="-1" strike="noStrike">
              <a:solidFill>
                <a:srgbClr val="003300"/>
              </a:solidFill>
              <a:latin typeface="Comic Sans MS"/>
            </a:endParaRPr>
          </a:p>
          <a:p>
            <a:pPr marL="343080" indent="-34308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TEFTİŞ ,Prof. Dr. Haydar TAYMAZ</a:t>
            </a:r>
            <a:endParaRPr b="0" lang="en-US" sz="3200" spc="-1" strike="noStrike">
              <a:solidFill>
                <a:srgbClr val="003300"/>
              </a:solidFill>
              <a:latin typeface="Comic Sans MS"/>
            </a:endParaRPr>
          </a:p>
          <a:p>
            <a:pPr marL="343080" indent="-34308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İnceleme ve Soruşturma Alp Yayıncılık</a:t>
            </a: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7546D1E0-A177-489B-9939-EDA8BF856BB4}" type="slidenum">
              <a:t>127</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38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00"/>
                </a:solidFill>
                <a:latin typeface="Comic Sans MS"/>
              </a:rPr>
              <a:t>SORUŞTURMALAR</a:t>
            </a:r>
            <a:endParaRPr b="1" i="1" lang="en-US" sz="4400" spc="-1" strike="noStrike">
              <a:solidFill>
                <a:srgbClr val="003300"/>
              </a:solidFill>
              <a:latin typeface="Comic Sans MS"/>
            </a:endParaRPr>
          </a:p>
        </p:txBody>
      </p:sp>
      <p:sp>
        <p:nvSpPr>
          <p:cNvPr id="3" name="PlaceHolder 2"/>
          <p:cNvSpPr>
            <a:spLocks noGrp="1"/>
          </p:cNvSpPr>
          <p:nvPr>
            <p:ph type="sldNum" idx="2"/>
          </p:nvPr>
        </p:nvSpPr>
        <p:spPr/>
        <p:txBody>
          <a:bodyPr/>
          <a:p>
            <a:fld id="{541D39E2-1667-468F-80A0-51D1DC28F0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Comic Sans MS"/>
              </a:rPr>
              <a:t>DİSİPLİN CEZALARI VE AMACI </a:t>
            </a:r>
            <a:endParaRPr b="1" i="1" lang="en-US" sz="3200" spc="-1" strike="noStrike">
              <a:solidFill>
                <a:srgbClr val="003300"/>
              </a:solidFill>
              <a:latin typeface="Comic Sans MS"/>
            </a:endParaRPr>
          </a:p>
        </p:txBody>
      </p:sp>
      <p:sp>
        <p:nvSpPr>
          <p:cNvPr id="132" name="PlaceHolder 2"/>
          <p:cNvSpPr>
            <a:spLocks noGrp="1"/>
          </p:cNvSpPr>
          <p:nvPr>
            <p:ph/>
          </p:nvPr>
        </p:nvSpPr>
        <p:spPr>
          <a:xfrm>
            <a:off x="457200" y="1523520"/>
            <a:ext cx="822960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0" lang="en-US" sz="2800" spc="-1" strike="noStrike">
                <a:solidFill>
                  <a:srgbClr val="003300"/>
                </a:solidFill>
                <a:latin typeface="Comic Sans MS"/>
              </a:rPr>
              <a:t>	</a:t>
            </a:r>
            <a:r>
              <a:rPr b="0" lang="en-US" sz="2800" spc="-1" strike="noStrike">
                <a:solidFill>
                  <a:srgbClr val="003300"/>
                </a:solidFill>
                <a:latin typeface="Comic Sans MS"/>
              </a:rPr>
              <a:t>Disiplin cezaları, kamu görev ve hizmetlerinin sağlıklı, düzenli, zamanında ve gereği gibi yürütülüp yerine getirilmesini sağlamak için kanun, tüzük ve yönetme­liklerin kamu görevlileri ve hizmetlilerine emrettiği ödevleri yurt içinde veya dışın­da yerine getirmelerini sağlamak ve bu görevlilerin çalışma düzeni için sağlanan şartları ve çalışma ortamını bozucu eylemlerde bulunmalarını önlemek amacını taşır.</a:t>
            </a:r>
            <a:r>
              <a:rPr b="0" lang="en-US" sz="2800" spc="-1" strike="noStrike">
                <a:solidFill>
                  <a:srgbClr val="003300"/>
                </a:solidFill>
                <a:latin typeface="Comic Sans MS"/>
              </a:rPr>
              <a:t>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8B986F01-7C2A-4376-BE93-A7C76D679E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DİSİPLİN CEZALARININ ÖZELLİKLERİ</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Disiplin cezaları;</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Sadece kamu görevlileri ile belli meslek mensuplarına uygulanı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Kişiseldi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Memurun özlük hak ve meslek statüsüne yönelik etkileri vardı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Savunma hakkı tanınmadan verilemez.</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Takdiri cezalar olup, takdir yetkisi belli makam ve kurullara aittir. Ancak bu takdir hakkı sınırsız olmayıp, belirli usul ve esaslarla kamu görevlilerini sübjektif etkilenmelerden koru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Uygulamada eşitlik ilkesi esas olup, aynı eylemde bulunanların aynı nitelikteki cezalara tabi tutulması temel alını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Yargı kararı aranmaz ve verildiği tarihten itibaren hüküm ifade ede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 </a:t>
            </a:r>
            <a:r>
              <a:rPr b="0" lang="en-US" sz="2000" spc="-1" strike="noStrike">
                <a:solidFill>
                  <a:srgbClr val="003300"/>
                </a:solidFill>
                <a:latin typeface="Comic Sans MS"/>
              </a:rPr>
              <a:t>Ertelenmeleri mümkün değildi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CA9CA991-F15D-4A12-A142-6CBF1D9147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6840"/>
            <a:ext cx="82296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Comic Sans MS"/>
              </a:rPr>
              <a:t>DİSİPLİN CEZALARININ ÇEŞİTLERİ VE CEZA UYGULANACAK FİİL VE HALLER</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36" name="PlaceHolder 2"/>
          <p:cNvSpPr>
            <a:spLocks noGrp="1"/>
          </p:cNvSpPr>
          <p:nvPr>
            <p:ph/>
          </p:nvPr>
        </p:nvSpPr>
        <p:spPr>
          <a:xfrm>
            <a:off x="380880" y="1904760"/>
            <a:ext cx="8229600" cy="472428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Comic Sans MS"/>
              </a:rPr>
              <a:t>	</a:t>
            </a:r>
            <a:r>
              <a:rPr b="1" lang="en-US" sz="1800" spc="-1" strike="noStrike">
                <a:solidFill>
                  <a:srgbClr val="003300"/>
                </a:solidFill>
                <a:latin typeface="Comic Sans MS"/>
              </a:rPr>
              <a:t>657 sayılı Devlet Memurları Kanununun  125. maddesi;</a:t>
            </a:r>
            <a:r>
              <a:rPr b="0" lang="en-US" sz="1800" spc="-1" strike="noStrike">
                <a:solidFill>
                  <a:srgbClr val="003300"/>
                </a:solidFill>
                <a:latin typeface="Comic Sans MS"/>
              </a:rPr>
              <a:t> </a:t>
            </a:r>
            <a:endParaRPr b="0" lang="en-US" sz="1800" spc="-1" strike="noStrike">
              <a:solidFill>
                <a:srgbClr val="003300"/>
              </a:solidFill>
              <a:latin typeface="Comic Sans MS"/>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Comic Sans MS"/>
            </a:endParaRPr>
          </a:p>
          <a:p>
            <a:pPr marL="609480" indent="-6094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Comic Sans MS"/>
              </a:rPr>
              <a:t>A) Uyarma : </a:t>
            </a:r>
            <a:r>
              <a:rPr b="0" lang="en-US" sz="1800" spc="-1" strike="noStrike">
                <a:solidFill>
                  <a:srgbClr val="003300"/>
                </a:solidFill>
                <a:latin typeface="Comic Sans MS"/>
              </a:rPr>
              <a:t>Memura görevinde ve davranışlarında daha dikkatli olması gerektiğinin yazı ile bildirilmesidir.</a:t>
            </a:r>
            <a:endParaRPr b="0" lang="en-US" sz="1800" spc="-1" strike="noStrike">
              <a:solidFill>
                <a:srgbClr val="003300"/>
              </a:solidFill>
              <a:latin typeface="Comic Sans MS"/>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Comic Sans MS"/>
            </a:endParaRPr>
          </a:p>
          <a:p>
            <a:pPr marL="609480" indent="-6094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Comic Sans MS"/>
              </a:rPr>
              <a:t>B) Kınama : </a:t>
            </a:r>
            <a:r>
              <a:rPr b="0" lang="en-US" sz="1800" spc="-1" strike="noStrike">
                <a:solidFill>
                  <a:srgbClr val="003300"/>
                </a:solidFill>
                <a:latin typeface="Comic Sans MS"/>
              </a:rPr>
              <a:t>Memura, görevinde ve davranışlarında kusurlu olduğunun yazı ile bildirilmesidir.</a:t>
            </a:r>
            <a:endParaRPr b="0" lang="en-US" sz="1800" spc="-1" strike="noStrike">
              <a:solidFill>
                <a:srgbClr val="003300"/>
              </a:solidFill>
              <a:latin typeface="Comic Sans MS"/>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Comic Sans MS"/>
            </a:endParaRPr>
          </a:p>
          <a:p>
            <a:pPr marL="609480" indent="-6094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Comic Sans MS"/>
              </a:rPr>
              <a:t>C ) Aylıktan kesme : </a:t>
            </a:r>
            <a:r>
              <a:rPr b="0" lang="en-US" sz="1800" spc="-1" strike="noStrike">
                <a:solidFill>
                  <a:srgbClr val="003300"/>
                </a:solidFill>
                <a:latin typeface="Comic Sans MS"/>
              </a:rPr>
              <a:t>Memurun brüt aylığından 1/30 - 1/8 arasında kesinti yapılmasıdır.</a:t>
            </a:r>
            <a:endParaRPr b="0" lang="en-US" sz="1800" spc="-1" strike="noStrike">
              <a:solidFill>
                <a:srgbClr val="003300"/>
              </a:solidFill>
              <a:latin typeface="Comic Sans MS"/>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Comic Sans MS"/>
            </a:endParaRPr>
          </a:p>
          <a:p>
            <a:pPr marL="609480" indent="-6094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Comic Sans MS"/>
              </a:rPr>
              <a:t>D) Kademe İlerlemesinin durdurulması: </a:t>
            </a:r>
            <a:r>
              <a:rPr b="0" lang="en-US" sz="1800" spc="-1" strike="noStrike">
                <a:solidFill>
                  <a:srgbClr val="003300"/>
                </a:solidFill>
                <a:latin typeface="Comic Sans MS"/>
              </a:rPr>
              <a:t>Fiilin ağırlık derecesine göre memurun bulunduğu kademede ilerlemesinin 1-3 yıl durdurulmasıdır.</a:t>
            </a:r>
            <a:endParaRPr b="0" lang="en-US" sz="1800" spc="-1" strike="noStrike">
              <a:solidFill>
                <a:srgbClr val="003300"/>
              </a:solidFill>
              <a:latin typeface="Comic Sans MS"/>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Comic Sans MS"/>
            </a:endParaRPr>
          </a:p>
          <a:p>
            <a:pPr marL="609480" indent="-6094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Comic Sans MS"/>
              </a:rPr>
              <a:t>E) Devlet memurluğundan çıkarma:</a:t>
            </a:r>
            <a:r>
              <a:rPr b="0" lang="en-US" sz="1800" spc="-1" strike="noStrike">
                <a:solidFill>
                  <a:srgbClr val="003300"/>
                </a:solidFill>
                <a:latin typeface="Comic Sans MS"/>
              </a:rPr>
              <a:t> Bir daha devlet memurluğuna atanmamak üzere memurluktan çıkarmaktır.</a:t>
            </a:r>
            <a:endParaRPr b="0" lang="en-US" sz="1800" spc="-1" strike="noStrike">
              <a:solidFill>
                <a:srgbClr val="003300"/>
              </a:solidFill>
              <a:latin typeface="Comic Sans MS"/>
            </a:endParaRPr>
          </a:p>
        </p:txBody>
      </p:sp>
      <p:sp>
        <p:nvSpPr>
          <p:cNvPr id="4" name="PlaceHolder 3"/>
          <p:cNvSpPr>
            <a:spLocks noGrp="1"/>
          </p:cNvSpPr>
          <p:nvPr>
            <p:ph type="sldNum" idx="2"/>
          </p:nvPr>
        </p:nvSpPr>
        <p:spPr/>
        <p:txBody>
          <a:bodyPr/>
          <a:p>
            <a:fld id="{2D008448-8AA8-401B-B11A-5A1554EE64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DİSİPLİN CEZASI VERMEYE YETKİLİ AMİRLER</a:t>
            </a:r>
            <a:endParaRPr b="1" i="1" lang="en-US" sz="3200" spc="-1" strike="noStrike">
              <a:solidFill>
                <a:srgbClr val="003300"/>
              </a:solidFill>
              <a:latin typeface="Comic Sans MS"/>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	</a:t>
            </a:r>
            <a:r>
              <a:rPr b="0" lang="en-US" sz="2400" spc="-1" strike="noStrike">
                <a:solidFill>
                  <a:srgbClr val="003300"/>
                </a:solidFill>
                <a:latin typeface="Comic Sans MS"/>
              </a:rPr>
              <a:t>657 sayılı Kanunun 126. maddesine göre; </a:t>
            </a:r>
            <a:endParaRPr b="0" lang="en-US" sz="2400" spc="-1" strike="noStrike">
              <a:solidFill>
                <a:srgbClr val="0033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	</a:t>
            </a:r>
            <a:r>
              <a:rPr b="0" lang="en-US" sz="2400" spc="-1" strike="noStrike">
                <a:solidFill>
                  <a:srgbClr val="003300"/>
                </a:solidFill>
                <a:latin typeface="Comic Sans MS"/>
              </a:rPr>
              <a:t>Uyarma, kınama ve aylıktan kesme cezaları </a:t>
            </a:r>
            <a:r>
              <a:rPr b="0" lang="en-US" sz="2400" spc="-1" strike="noStrike" u="sng">
                <a:solidFill>
                  <a:srgbClr val="003300"/>
                </a:solidFill>
                <a:uFillTx/>
                <a:latin typeface="Comic Sans MS"/>
              </a:rPr>
              <a:t>Disiplin Amirleri</a:t>
            </a:r>
            <a:r>
              <a:rPr b="0" lang="en-US" sz="2400" spc="-1" strike="noStrike">
                <a:solidFill>
                  <a:srgbClr val="003300"/>
                </a:solidFill>
                <a:latin typeface="Comic Sans MS"/>
              </a:rPr>
              <a:t> tarafından, </a:t>
            </a:r>
            <a:endParaRPr b="0" lang="en-US" sz="2400" spc="-1" strike="noStrike">
              <a:solidFill>
                <a:srgbClr val="0033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	</a:t>
            </a:r>
            <a:r>
              <a:rPr b="0" lang="en-US" sz="2400" spc="-1" strike="noStrike">
                <a:solidFill>
                  <a:srgbClr val="003300"/>
                </a:solidFill>
                <a:latin typeface="Comic Sans MS"/>
              </a:rPr>
              <a:t>Kademe ilerlemesinin durdurulması cezası, me­murun bağlı olduğu kurumdaki disiplin kurulunun kararı alındıktan sonra </a:t>
            </a:r>
            <a:r>
              <a:rPr b="0" lang="en-US" sz="2400" spc="-1" strike="noStrike" u="sng">
                <a:solidFill>
                  <a:srgbClr val="003300"/>
                </a:solidFill>
                <a:uFillTx/>
                <a:latin typeface="Comic Sans MS"/>
              </a:rPr>
              <a:t>Atamaya Yetkili Amirler,il</a:t>
            </a:r>
            <a:r>
              <a:rPr b="0" lang="en-US" sz="2400" spc="-1" strike="noStrike">
                <a:solidFill>
                  <a:srgbClr val="003300"/>
                </a:solidFill>
                <a:latin typeface="Comic Sans MS"/>
              </a:rPr>
              <a:t> disiplin kurullarının kararlarına dayanan hallerde </a:t>
            </a:r>
            <a:r>
              <a:rPr b="0" lang="en-US" sz="2400" spc="-1" strike="noStrike" u="sng">
                <a:solidFill>
                  <a:srgbClr val="003300"/>
                </a:solidFill>
                <a:uFillTx/>
                <a:latin typeface="Comic Sans MS"/>
              </a:rPr>
              <a:t>Valiler </a:t>
            </a:r>
            <a:r>
              <a:rPr b="0" lang="en-US" sz="2400" spc="-1" strike="noStrike">
                <a:solidFill>
                  <a:srgbClr val="003300"/>
                </a:solidFill>
                <a:latin typeface="Comic Sans MS"/>
              </a:rPr>
              <a:t>tarafından verilir. </a:t>
            </a:r>
            <a:endParaRPr b="0" lang="en-US" sz="2400" spc="-1" strike="noStrike">
              <a:solidFill>
                <a:srgbClr val="0033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	</a:t>
            </a:r>
            <a:r>
              <a:rPr b="0" lang="en-US" sz="2400" spc="-1" strike="noStrike">
                <a:solidFill>
                  <a:srgbClr val="003300"/>
                </a:solidFill>
                <a:latin typeface="Comic Sans MS"/>
              </a:rPr>
              <a:t>Devlet memurluğundan çıkarma cezası amirlerin bu yoldaki isteği üzerine memurun bağlı bulunduğu kurumun </a:t>
            </a:r>
            <a:r>
              <a:rPr b="0" lang="en-US" sz="2400" spc="-1" strike="noStrike" u="sng">
                <a:solidFill>
                  <a:srgbClr val="003300"/>
                </a:solidFill>
                <a:uFillTx/>
                <a:latin typeface="Comic Sans MS"/>
              </a:rPr>
              <a:t>Yüksek Disiplin Kurulu</a:t>
            </a:r>
            <a:r>
              <a:rPr b="0" lang="en-US" sz="2400" spc="-1" strike="noStrike">
                <a:solidFill>
                  <a:srgbClr val="003300"/>
                </a:solidFill>
                <a:latin typeface="Comic Sans MS"/>
              </a:rPr>
              <a:t> kararı ile verili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C9A724F2-2543-4BDD-8507-E367D4D048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DİSİPLİN KURULLARI</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40" name="PlaceHolder 2"/>
          <p:cNvSpPr>
            <a:spLocks noGrp="1"/>
          </p:cNvSpPr>
          <p:nvPr>
            <p:ph/>
          </p:nvPr>
        </p:nvSpPr>
        <p:spPr>
          <a:xfrm>
            <a:off x="457200" y="1523520"/>
            <a:ext cx="82296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657 sayılı Devlet Memurları Kanununun 134. maddesi disiplin kurullarının oluşmasına dayanak teşkil etmekte olup, buna dayalı olarak çıkarılan Disiplin Kurulları ve Disiplin Amirleri Hakkında Yönetmelikte konuya ilişkin esaslar belirlenmiştir. Kurulların kuruluş ve görev alanları yönetmeliğin 4. ve 8. maddelerinde  belirtilmiştir. </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657, 1702 ve 4357 sayılı Kanunlardaki disiplin cezaları esas alınarak işlem yapar.</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Bu kurulların hiyerarşik bağlantıları olmadığından birbirlerine emir ve talimat veremezler, görüş belirtemezler.</a:t>
            </a:r>
            <a:endParaRPr b="0" lang="en-US" sz="2400" spc="-1" strike="noStrike">
              <a:solidFill>
                <a:srgbClr val="0033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B5B9EC03-2327-444D-94E9-5372D0A468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DİSİPLİN KURULLARI</a:t>
            </a:r>
            <a:endParaRPr b="1" i="1" lang="en-US" sz="3200" spc="-1" strike="noStrike">
              <a:solidFill>
                <a:srgbClr val="003300"/>
              </a:solidFill>
              <a:latin typeface="Comic Sans MS"/>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	</a:t>
            </a:r>
            <a:r>
              <a:rPr b="0" lang="en-US" sz="3200" spc="-1" strike="noStrike">
                <a:solidFill>
                  <a:srgbClr val="003300"/>
                </a:solidFill>
                <a:latin typeface="Comic Sans MS"/>
              </a:rPr>
              <a:t>	</a:t>
            </a:r>
            <a:r>
              <a:rPr b="0" lang="en-US" sz="3200" spc="-1" strike="noStrike">
                <a:solidFill>
                  <a:srgbClr val="003300"/>
                </a:solidFill>
                <a:latin typeface="Comic Sans MS"/>
              </a:rPr>
              <a:t>Buna göre. Millî Eğitim Bakanlığı merkez ve taşra teşkilatında çalışan görevlilerle ilgili disiplin kurulları:</a:t>
            </a:r>
            <a:endParaRPr b="0" lang="en-US" sz="3200" spc="-1" strike="noStrike">
              <a:solidFill>
                <a:srgbClr val="003300"/>
              </a:solidFill>
              <a:latin typeface="Comic Sans MS"/>
            </a:endParaRPr>
          </a:p>
          <a:p>
            <a:pPr marL="343080" indent="-34308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İl Disiplin Kurulu,</a:t>
            </a:r>
            <a:endParaRPr b="0" lang="en-US" sz="3200" spc="-1" strike="noStrike">
              <a:solidFill>
                <a:srgbClr val="003300"/>
              </a:solidFill>
              <a:latin typeface="Comic Sans MS"/>
            </a:endParaRPr>
          </a:p>
          <a:p>
            <a:pPr marL="343080" indent="-34308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İl Millî Eğitim Disiplin Kurulu,</a:t>
            </a:r>
            <a:endParaRPr b="0" lang="en-US" sz="3200" spc="-1" strike="noStrike">
              <a:solidFill>
                <a:srgbClr val="003300"/>
              </a:solidFill>
              <a:latin typeface="Comic Sans MS"/>
            </a:endParaRPr>
          </a:p>
          <a:p>
            <a:pPr marL="343080" indent="-34308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Merkez Disiplin Kurulu,</a:t>
            </a:r>
            <a:endParaRPr b="0" lang="en-US" sz="3200" spc="-1" strike="noStrike">
              <a:solidFill>
                <a:srgbClr val="003300"/>
              </a:solidFill>
              <a:latin typeface="Comic Sans MS"/>
            </a:endParaRPr>
          </a:p>
          <a:p>
            <a:pPr marL="343080" indent="-34308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Yüksek Disiplin Kuruludur.</a:t>
            </a:r>
            <a:endParaRPr b="0" lang="en-US" sz="3200" spc="-1" strike="noStrike">
              <a:solidFill>
                <a:srgbClr val="0033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3364334C-F48F-4AEA-B475-ED188738FB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80880" y="1295280"/>
            <a:ext cx="5105520" cy="4191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00"/>
                </a:solidFill>
                <a:latin typeface="Comic Sans MS"/>
              </a:rPr>
              <a:t>	</a:t>
            </a:r>
            <a:r>
              <a:rPr b="0" i="1" lang="en-US" sz="2800" spc="-1" strike="noStrike">
                <a:solidFill>
                  <a:srgbClr val="003300"/>
                </a:solidFill>
                <a:latin typeface="Comic Sans MS"/>
              </a:rPr>
              <a:t>Yaptıkları işin doğruluğuna inanan insanlar,</a:t>
            </a:r>
            <a:br>
              <a:rPr sz="2800"/>
            </a:br>
            <a:r>
              <a:rPr b="0" i="1" lang="en-US" sz="2800" spc="-1" strike="noStrike">
                <a:solidFill>
                  <a:srgbClr val="003300"/>
                </a:solidFill>
                <a:latin typeface="Comic Sans MS"/>
              </a:rPr>
              <a:t>çalışmalarının denetlenmesinden, karşı fikirler </a:t>
            </a:r>
            <a:br>
              <a:rPr sz="2800"/>
            </a:br>
            <a:r>
              <a:rPr b="0" i="1" lang="en-US" sz="2800" spc="-1" strike="noStrike">
                <a:solidFill>
                  <a:srgbClr val="003300"/>
                </a:solidFill>
                <a:latin typeface="Comic Sans MS"/>
              </a:rPr>
              <a:t>ortaya atılmasından ve tercihleri üzerinde </a:t>
            </a:r>
            <a:br>
              <a:rPr sz="2800"/>
            </a:br>
            <a:r>
              <a:rPr b="0" i="1" lang="en-US" sz="2800" spc="-1" strike="noStrike">
                <a:solidFill>
                  <a:srgbClr val="003300"/>
                </a:solidFill>
                <a:latin typeface="Comic Sans MS"/>
              </a:rPr>
              <a:t>münakaşa yapmaktan zevk alırlar</a:t>
            </a:r>
            <a:r>
              <a:rPr b="0" lang="en-US" sz="2800" spc="-1" strike="noStrike">
                <a:solidFill>
                  <a:srgbClr val="003300"/>
                </a:solidFill>
                <a:latin typeface="Comic Sans MS"/>
              </a:rPr>
              <a:t> .</a:t>
            </a:r>
            <a:endParaRPr b="0" lang="en-US" sz="2800" spc="-1" strike="noStrike">
              <a:solidFill>
                <a:srgbClr val="003300"/>
              </a:solidFill>
              <a:latin typeface="Comic Sans MS"/>
            </a:endParaRPr>
          </a:p>
        </p:txBody>
      </p:sp>
      <p:pic>
        <p:nvPicPr>
          <p:cNvPr id="110" name="" descr=""/>
          <p:cNvPicPr/>
          <p:nvPr/>
        </p:nvPicPr>
        <p:blipFill>
          <a:blip r:embed="rId1"/>
          <a:stretch/>
        </p:blipFill>
        <p:spPr>
          <a:xfrm>
            <a:off x="5562720" y="1143000"/>
            <a:ext cx="2879640" cy="4343400"/>
          </a:xfrm>
          <a:prstGeom prst="rect">
            <a:avLst/>
          </a:prstGeom>
          <a:ln w="0">
            <a:noFill/>
          </a:ln>
        </p:spPr>
      </p:pic>
      <p:sp>
        <p:nvSpPr>
          <p:cNvPr id="3" name="PlaceHolder 2"/>
          <p:cNvSpPr>
            <a:spLocks noGrp="1"/>
          </p:cNvSpPr>
          <p:nvPr>
            <p:ph type="sldNum" idx="2"/>
          </p:nvPr>
        </p:nvSpPr>
        <p:spPr/>
        <p:txBody>
          <a:bodyPr/>
          <a:p>
            <a:fld id="{A0F4CFB0-96D6-471B-A5D1-375B5277AD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DİSİPLİN CEZASI UYGULANMASINDA TAKDİR HAKKI</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00"/>
                </a:solidFill>
                <a:latin typeface="Comic Sans MS"/>
              </a:rPr>
              <a:t>Disiplin cezalarının uygulanması ile ilgili olarak 657 sayılı Devlet Memurla­rı Kanununun 126. maddesinin üçüncü fıkrasında; </a:t>
            </a:r>
            <a:endParaRPr b="0" lang="en-US" sz="2400" spc="-1" strike="noStrike">
              <a:solidFill>
                <a:srgbClr val="0033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3300"/>
                </a:solidFill>
                <a:latin typeface="Comic Sans MS"/>
              </a:rPr>
              <a:t> </a:t>
            </a:r>
            <a:r>
              <a:rPr b="1" i="1" lang="tr-TR" sz="2400" spc="-1" strike="noStrike">
                <a:solidFill>
                  <a:srgbClr val="003300"/>
                </a:solidFill>
                <a:latin typeface="Comic Sans MS"/>
              </a:rPr>
              <a:t>	</a:t>
            </a:r>
            <a:r>
              <a:rPr b="1" i="1" lang="tr-TR" sz="2400" spc="-1" strike="noStrike">
                <a:solidFill>
                  <a:srgbClr val="003300"/>
                </a:solidFill>
                <a:latin typeface="Comic Sans MS"/>
              </a:rPr>
              <a:t>	</a:t>
            </a:r>
            <a:r>
              <a:rPr b="1" i="1" lang="tr-TR" sz="2400" spc="-1" strike="noStrike">
                <a:solidFill>
                  <a:srgbClr val="003300"/>
                </a:solidFill>
                <a:latin typeface="Comic Sans MS"/>
              </a:rPr>
              <a:t>“</a:t>
            </a:r>
            <a:r>
              <a:rPr b="1" i="1" lang="tr-TR" sz="2400" spc="-1" strike="noStrike">
                <a:solidFill>
                  <a:srgbClr val="003300"/>
                </a:solidFill>
                <a:latin typeface="Comic Sans MS"/>
              </a:rPr>
              <a:t>Disiplin kurulu ve yüksek disiplin kurulunun ayrı bir ceza tayinine yetkisi yoktur. Cezayı kabul veya reddeder. Red halinde, atamaya yetkili amirler 15 gün içinde başka bir disiplin cezası vermekte serbesttirler” </a:t>
            </a:r>
            <a:endParaRPr b="0" lang="en-US" sz="2400" spc="-1" strike="noStrike">
              <a:solidFill>
                <a:srgbClr val="0033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00"/>
                </a:solidFill>
                <a:latin typeface="Comic Sans MS"/>
              </a:rPr>
              <a:t>    </a:t>
            </a:r>
            <a:r>
              <a:rPr b="0" lang="tr-TR" sz="2400" spc="-1" strike="noStrike">
                <a:solidFill>
                  <a:srgbClr val="003300"/>
                </a:solidFill>
                <a:latin typeface="Comic Sans MS"/>
              </a:rPr>
              <a:t>hükmü yer almakta olup, bu hüküm karşısında takdir yetkisinin sadece atamaya yetkili amire ait olduğu ortaya çıkmaktadı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45E2D0F5-32BF-489A-AB1E-ACB779F72A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ADAY MEMURA DİSİPLİN </a:t>
            </a:r>
            <a:br>
              <a:rPr sz="3200"/>
            </a:br>
            <a:r>
              <a:rPr b="1" i="1" lang="en-US" sz="3200" spc="-1" strike="noStrike">
                <a:solidFill>
                  <a:srgbClr val="003300"/>
                </a:solidFill>
                <a:latin typeface="Comic Sans MS"/>
              </a:rPr>
              <a:t>CEZASI VERİLİP VERİLEMEYECEĞİ</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0" lang="en-US" sz="2800" spc="-1" strike="noStrike">
                <a:solidFill>
                  <a:srgbClr val="003300"/>
                </a:solidFill>
                <a:latin typeface="Comic Sans MS"/>
              </a:rPr>
              <a:t>657 sayılı Devlet Memurları Kanununun 56. maddesinde aday memurların; </a:t>
            </a:r>
            <a:r>
              <a:rPr b="1" i="1" lang="en-US" sz="2800" spc="-1" strike="noStrike">
                <a:solidFill>
                  <a:srgbClr val="003300"/>
                </a:solidFill>
                <a:latin typeface="Comic Sans MS"/>
              </a:rPr>
              <a:t>“… adaylık süresi içinde hal ve hareketlerinde memuriyetle bağdaşmayacak durumları, görevde devamsızlıkları tespit edilenlerin </a:t>
            </a:r>
            <a:r>
              <a:rPr b="1" lang="en-US" sz="2800" spc="-1" strike="noStrike">
                <a:solidFill>
                  <a:srgbClr val="003300"/>
                </a:solidFill>
                <a:latin typeface="Comic Sans MS"/>
              </a:rPr>
              <a:t>...</a:t>
            </a:r>
            <a:r>
              <a:rPr b="0" lang="en-US" sz="2800" spc="-1" strike="noStrike">
                <a:solidFill>
                  <a:srgbClr val="003300"/>
                </a:solidFill>
                <a:latin typeface="Comic Sans MS"/>
              </a:rPr>
              <a:t> “ilişiklerinin kesilmesini gerektirmeyen daha hafif nitelikli kusurlu davranış içinde bulunan aday memurlara disiplin cezası verilebileceği Danıştay 5. Dairesinin E.: 1990/3713, K.: 1991/154 sayılı kararından anlaşılmaktadı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94A93094-1536-413E-8DA7-665C8D554C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VEKİL ÖĞRETMEN DİSİPLİN </a:t>
            </a:r>
            <a:br>
              <a:rPr sz="3200"/>
            </a:br>
            <a:r>
              <a:rPr b="1" i="1" lang="en-US" sz="3200" spc="-1" strike="noStrike">
                <a:solidFill>
                  <a:srgbClr val="003300"/>
                </a:solidFill>
                <a:latin typeface="Comic Sans MS"/>
              </a:rPr>
              <a:t>CEZASI VERİLİP VERİLEMEYECEĞİ</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657 sayılı Devlet Memurları Kanununun 86. maddesi uyarınca görevlendiri­len vekil öğretmenlerden, mevzuatla kendilerine verilen görevlerin yerine getirilme­sinde ihmal ve kusuru görülenlere disiplin cezası verilemeyeceğinden, görevlerine derhal son verilir. Bu durumda olanlara sonraki eğitim-öğretim yıllarında aynı görevin verilmemesi cihetine gidili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8B09C8B2-C989-4198-90EB-F43D601EBF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SÖZLEŞMELİ PERSONE DİSİPLİN </a:t>
            </a:r>
            <a:br>
              <a:rPr sz="3200"/>
            </a:br>
            <a:r>
              <a:rPr b="1" i="1" lang="en-US" sz="3200" spc="-1" strike="noStrike">
                <a:solidFill>
                  <a:srgbClr val="003300"/>
                </a:solidFill>
                <a:latin typeface="Comic Sans MS"/>
              </a:rPr>
              <a:t>CEZASI VERİLİP VERİLEMEYECEĞİ</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Sözleşmeli olarak görev yapanlar hakkında, Bakanlar Kurulunun 7/15754 sayılı kararı ve ekindeki “Sözleşmeli Personel Çalıştırılmasına İlişkin Esaslar” uyarın­ca, anılan kararname hükümlerine aykırı davranışı tespit edilen ilgililere, durumla­rının kendilerine yazılı olarak tebliğ edileceği ve bildirilen günden geçerli olmak üzere sözleşmelerinin sona ereceği ifade edilmiştir.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0DFE71E1-8D5F-4465-92AC-0E51AB14A1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6094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Comic Sans MS"/>
              </a:rPr>
              <a:t>MEMURİYETTEN AYRILANLARA DİSİPLİN </a:t>
            </a:r>
            <a:br>
              <a:rPr sz="2800"/>
            </a:br>
            <a:r>
              <a:rPr b="1" i="1" lang="en-US" sz="2800" spc="-1" strike="noStrike">
                <a:solidFill>
                  <a:srgbClr val="003300"/>
                </a:solidFill>
                <a:latin typeface="Comic Sans MS"/>
              </a:rPr>
              <a:t>CEZASI VERİLİP VERİLEMEYECEĞİ</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152" name="PlaceHolder 2"/>
          <p:cNvSpPr>
            <a:spLocks noGrp="1"/>
          </p:cNvSpPr>
          <p:nvPr>
            <p:ph/>
          </p:nvPr>
        </p:nvSpPr>
        <p:spPr>
          <a:xfrm>
            <a:off x="457200" y="2286000"/>
            <a:ext cx="8229600" cy="358128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Devlet memurluğundan istifa ve emeklilik gibi bir nedenle ayrılmış olanlar konusunda Danıştay 3. Dairesinin 27.1/1977 gün ve E. 1977/47, K.:1977/12 sayılı ka­rarında, </a:t>
            </a:r>
            <a:r>
              <a:rPr b="1" i="1" lang="en-US" sz="2000" spc="-1" strike="noStrike">
                <a:solidFill>
                  <a:srgbClr val="003300"/>
                </a:solidFill>
                <a:latin typeface="Comic Sans MS"/>
              </a:rPr>
              <a:t>“Memur iken işlediği disiplin fiilinden dolayı hakkında soruşturmaya başvurulmuş, ancak soruşturma bitmeden görevden ayrılmış bir kişi hakkındaki kovuşturmanın sonuçlandırılması gerektiği</a:t>
            </a:r>
            <a:r>
              <a:rPr b="0" i="1" lang="en-US" sz="2000" spc="-1" strike="noStrike">
                <a:solidFill>
                  <a:srgbClr val="003300"/>
                </a:solidFill>
                <a:latin typeface="Comic Sans MS"/>
              </a:rPr>
              <a:t>” </a:t>
            </a:r>
            <a:r>
              <a:rPr b="0" lang="en-US" sz="2000" spc="-1" strike="noStrike">
                <a:solidFill>
                  <a:srgbClr val="003300"/>
                </a:solidFill>
                <a:latin typeface="Comic Sans MS"/>
              </a:rPr>
              <a:t>denilmektedir. Bu karar bağlamında mevcut uygulama, işlediği bir disiplin fiili nedeniyle kendisine ceza verilmeden gö­revinden ayrılan memur hakkındaki işlemlerin tamamlanarak memurun dosyasında saklanması ve bu kişilerin tekrar memuriyete dönmeleri halinde uygulama imkanı bulunan disiplin cezalarının verilmesi şeklindedi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D87A4957-9795-4715-9CC7-52D11BD425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DİSİPLİN CEZALARINA İTİRAZ</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Anayasanın 129. maddesi 3. fıkrasında, </a:t>
            </a:r>
            <a:r>
              <a:rPr b="1" i="1" lang="en-US" sz="2400" spc="-1" strike="noStrike">
                <a:solidFill>
                  <a:srgbClr val="003300"/>
                </a:solidFill>
                <a:latin typeface="Comic Sans MS"/>
              </a:rPr>
              <a:t>“Uyarma ve kınama cezalarıyla ilgili olanlar hariç, disiplin kararları yargı denetimi dışında bırakılamaz.”</a:t>
            </a:r>
            <a:r>
              <a:rPr b="0" lang="en-US" sz="2400" spc="-1" strike="noStrike">
                <a:solidFill>
                  <a:srgbClr val="003300"/>
                </a:solidFill>
                <a:latin typeface="Comic Sans MS"/>
              </a:rPr>
              <a:t>;</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657 sayılı Dev­let Memurlar Kanununun 135. maddesinde, </a:t>
            </a:r>
            <a:r>
              <a:rPr b="1" i="1" lang="en-US" sz="2400" spc="-1" strike="noStrike">
                <a:solidFill>
                  <a:srgbClr val="003300"/>
                </a:solidFill>
                <a:latin typeface="Comic Sans MS"/>
              </a:rPr>
              <a:t>“Disiplin amirleri tarafından verilen uyarma ve kınama cezalarına karşı itiraz, varsa bir üst disiplin amirine, yoksa disiplin ku­rullarına yapılabilir. Aylıktan kesme, kademe ilerlemesinin durdurulması ve Devlet memurluğundan çıkarma cezalarına karşı idari yargı yoluna başvurulabilir.”</a:t>
            </a:r>
            <a:r>
              <a:rPr b="0" lang="en-US" sz="2400" spc="-1" strike="noStrike">
                <a:solidFill>
                  <a:srgbClr val="003300"/>
                </a:solidFill>
                <a:latin typeface="Comic Sans MS"/>
              </a:rPr>
              <a:t>;</a:t>
            </a:r>
            <a:r>
              <a:rPr b="0" i="1" lang="en-US" sz="2400" spc="-1" strike="noStrike">
                <a:solidFill>
                  <a:srgbClr val="003300"/>
                </a:solidFill>
                <a:latin typeface="Comic Sans MS"/>
              </a:rPr>
              <a:t> </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9BD9FC22-1F2D-429C-B399-CBD42B14A1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DİSİPLİN CEZALARINA İTİRAZ</a:t>
            </a:r>
            <a:endParaRPr b="1" i="1" lang="en-US" sz="3600" spc="-1" strike="noStrike">
              <a:solidFill>
                <a:srgbClr val="003300"/>
              </a:solidFill>
              <a:latin typeface="Comic Sans MS"/>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136. maddesinde de, </a:t>
            </a:r>
            <a:r>
              <a:rPr b="1" i="1" lang="en-US" sz="2000" spc="-1" strike="noStrike">
                <a:solidFill>
                  <a:srgbClr val="003300"/>
                </a:solidFill>
                <a:latin typeface="Comic Sans MS"/>
              </a:rPr>
              <a:t>“Disiplin amirleri ve disiplin kurulları tarafından verilen disiplin ce­zalarına karşı yapılacak itirazlarda süre, kararın ilgiliye tebliği tarihinden itibaren 7 gündür. Bu süre içinde itiraz edilmeyen disiplin cezaları kesinleşir. İtiraz halinde, itiraz mercileri kararı gözden geçirerek verilen cezayı aynen kabul edebilecekleri gibi ce­zayı hafifletebilirler veya tamamen kaldırabilirler. İtiraz edilmeyen kararlar ile itiraz üzerine verilen kararlar kesin olup, bu kararlar aleyhine idari yargı yoluna başvuru­lamaz. İtiraz mercileri, itiraz dilekçesiyle karar ve eklerinin kendilerine intikalinden itibaren 30 gün içinde kararlarını vermek zorundadırlar. Kaldırılan cezalar sicilden silinir.”</a:t>
            </a:r>
            <a:r>
              <a:rPr b="0" i="1" lang="en-US" sz="2000" spc="-1" strike="noStrike">
                <a:solidFill>
                  <a:srgbClr val="003300"/>
                </a:solidFill>
                <a:latin typeface="Comic Sans MS"/>
              </a:rPr>
              <a:t> </a:t>
            </a:r>
            <a:r>
              <a:rPr b="0" lang="en-US" sz="2000" spc="-1" strike="noStrike">
                <a:solidFill>
                  <a:srgbClr val="003300"/>
                </a:solidFill>
                <a:latin typeface="Comic Sans MS"/>
              </a:rPr>
              <a:t>denilmek suretiyle itiraz, süresi ve yapılacak işlemlerin yasal dayanağı ortaya konulmuştur.</a:t>
            </a:r>
            <a:endParaRPr b="0" lang="en-US" sz="2000" spc="-1" strike="noStrike">
              <a:solidFill>
                <a:srgbClr val="0033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09BB6ED1-D7DA-4388-98A6-18AC079A65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DİSİPLİN CEZALARININ SİCİLDEN SİLİNMESİ VE GERİ ALINAMAMASI</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Disiplin cezalarının sicilden silinme süresi geçtikten sonra hükümsüz kılınması durumu hariç, geri alınması, yerine başka bir cezanın verilmesi veya af sebebi dışındaki bir nedenle kaldırılması mümkün değildir.</a:t>
            </a: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8D94DBB1-CE93-4883-86CC-E3E3013B87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DİSİPLİN CEZALARININ SİCİLDEN SİLİNMESİ VE GERİ ALINAMAMASI</a:t>
            </a:r>
            <a:endParaRPr b="1" i="1" lang="en-US" sz="3200" spc="-1" strike="noStrike">
              <a:solidFill>
                <a:srgbClr val="003300"/>
              </a:solidFill>
              <a:latin typeface="Comic Sans MS"/>
            </a:endParaRPr>
          </a:p>
        </p:txBody>
      </p:sp>
      <p:sp>
        <p:nvSpPr>
          <p:cNvPr id="1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Devlet memurluğundan çıkarma dışındaki bir disiplin cezası ile tecziye edilmiş olan memur, uyarma ve kınama cezalarının (özel kanunlardaki kusurlu sayılma, ihtar ve tevbih cezalarının) uygulanmasından 5 yıl, diğer cezaların uygulanmasından 10 yıl sonra atamaya yetkili amire başvurmak su­retiyle verilmiş olan cezanın sicilden silinmesi isteğinde bulunabilir. Memurun iste­ğinin haklı bulunması halinde durum, sicil dosyasına işlenir.</a:t>
            </a:r>
            <a:endParaRPr b="0" lang="en-US" sz="2800" spc="-1" strike="noStrike">
              <a:solidFill>
                <a:srgbClr val="0033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09712FB9-1B72-4908-B85F-9022B9219F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DİSİPLİN CEZALARININ SİCİLDEN SİLİNMESİ VE GERİ ALINAMAMASI</a:t>
            </a:r>
            <a:endParaRPr b="1" i="1" lang="en-US" sz="3200" spc="-1" strike="noStrike">
              <a:solidFill>
                <a:srgbClr val="003300"/>
              </a:solidFill>
              <a:latin typeface="Comic Sans MS"/>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Kademe ilerlemesinin durdurulması cezasının sicilden silinmesi yolundaki is­teğin yerine getirilebilmesi için memurun 10 yıl içerisindeki davranışlarının bu iste­ğini haklı kılacak nitelikte görülmesi, disiplin kurulunun görüşünün alınması ve atamaya yetkili amirin cezanın sicilden silinmesine karar vermesi gerekmektedi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24ED427E-0299-4F89-B31C-30F8A3249E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80880" y="1828800"/>
            <a:ext cx="8229600" cy="327672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    </a:t>
            </a:r>
            <a:endParaRPr b="0" lang="en-US" sz="2000" spc="-1" strike="noStrike">
              <a:solidFill>
                <a:srgbClr val="003300"/>
              </a:solidFill>
              <a:latin typeface="Comic Sans MS"/>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Unicode MS"/>
              </a:rPr>
              <a:t>TEFTİŞİN PLANLANMASI</a:t>
            </a:r>
            <a:br>
              <a:rPr sz="3200"/>
            </a:br>
            <a:r>
              <a:rPr b="0" lang="en-US" sz="3200" spc="-1" strike="noStrike">
                <a:solidFill>
                  <a:srgbClr val="003300"/>
                </a:solidFill>
                <a:latin typeface="Arial Unicode MS"/>
              </a:rPr>
              <a:t>SORUŞTURMA VE ÖN İNCELEME YAPILMASINA </a:t>
            </a:r>
            <a:endParaRPr b="0" lang="en-US" sz="3200" spc="-1" strike="noStrike">
              <a:solidFill>
                <a:srgbClr val="003300"/>
              </a:solidFill>
              <a:latin typeface="Comic Sans MS"/>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Unicode MS"/>
              </a:rPr>
              <a:t>İLİŞKİN </a:t>
            </a:r>
            <a:br>
              <a:rPr sz="3200"/>
            </a:br>
            <a:r>
              <a:rPr b="0" lang="en-US" sz="3200" spc="-1" strike="noStrike">
                <a:solidFill>
                  <a:srgbClr val="003300"/>
                </a:solidFill>
                <a:latin typeface="Arial Unicode MS"/>
              </a:rPr>
              <a:t>USUL VE ESASLAR </a:t>
            </a:r>
            <a:br>
              <a:rPr sz="3200"/>
            </a:br>
            <a:r>
              <a:rPr b="0" lang="en-US" sz="3200" spc="-1" strike="noStrike">
                <a:solidFill>
                  <a:srgbClr val="003300"/>
                </a:solidFill>
                <a:latin typeface="Comic Sans MS"/>
              </a:rPr>
              <a:t>     </a:t>
            </a:r>
            <a:r>
              <a:rPr b="0" lang="en-US" sz="3200" spc="-1" strike="noStrike">
                <a:solidFill>
                  <a:srgbClr val="003300"/>
                </a:solidFill>
                <a:latin typeface="Comic Sans MS"/>
              </a:rPr>
              <a:t>	</a:t>
            </a:r>
            <a:r>
              <a:rPr b="0" lang="en-US" sz="3200" spc="-1" strike="noStrike">
                <a:solidFill>
                  <a:srgbClr val="003300"/>
                </a:solidFill>
                <a:latin typeface="Comic Sans MS"/>
              </a:rPr>
              <a:t>	</a:t>
            </a:r>
            <a:br>
              <a:rPr sz="3200"/>
            </a:br>
            <a:endParaRPr b="0" lang="en-US" sz="3200" spc="-1" strike="noStrike">
              <a:solidFill>
                <a:srgbClr val="003300"/>
              </a:solidFill>
              <a:latin typeface="Comic Sans MS"/>
            </a:endParaRPr>
          </a:p>
        </p:txBody>
      </p:sp>
      <p:sp>
        <p:nvSpPr>
          <p:cNvPr id="3" name="PlaceHolder 2"/>
          <p:cNvSpPr>
            <a:spLocks noGrp="1"/>
          </p:cNvSpPr>
          <p:nvPr>
            <p:ph type="sldNum" idx="2"/>
          </p:nvPr>
        </p:nvSpPr>
        <p:spPr/>
        <p:txBody>
          <a:bodyPr/>
          <a:p>
            <a:fld id="{48E1D442-AEA7-4ADA-A695-6F09BC93A8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DİSİPLİN CEZALARINDA ZAMANAŞIMI</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Kamu hizmetlerinin yürütülmesi sırasında ortaya çıkabilecek kusurlu davra­nışların sürüncemede kalmaması ve caydırıcılığın sağlanabilmesi amacıyla disiplin mevzuatına getirilen düzenleme, 657 sayılı Devlet Memurları Kanununun 127. mad­desinde “soruşturmaya başlama zamanaşımı’ ve “ceza verme zamanaşımı” terimleri ile ifadesini bulmaktadı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Soruşturmaya başlamada zamanaşımı</a:t>
            </a:r>
            <a:r>
              <a:rPr b="1" i="1" lang="en-US" sz="2000" spc="-1" strike="noStrike">
                <a:solidFill>
                  <a:srgbClr val="003300"/>
                </a:solidFill>
                <a:latin typeface="Comic Sans MS"/>
              </a:rPr>
              <a:t> </a:t>
            </a:r>
            <a:r>
              <a:rPr b="0" lang="en-US" sz="2000" spc="-1" strike="noStrike">
                <a:solidFill>
                  <a:srgbClr val="003300"/>
                </a:solidFill>
                <a:latin typeface="Comic Sans MS"/>
              </a:rPr>
              <a:t>anılan maddede; </a:t>
            </a:r>
            <a:r>
              <a:rPr b="1" i="1" lang="en-US" sz="2000" spc="-1" strike="noStrike">
                <a:solidFill>
                  <a:srgbClr val="003300"/>
                </a:solidFill>
                <a:latin typeface="Comic Sans MS"/>
              </a:rPr>
              <a:t>“Bu kanunun 125. maddesinde suç sayılan fiil ve halleri işleyenler hakkında, bu fiil ve hallerin işlendiğinin öğrenildiği tarihten itibaren uyarma, kınama, aylıktan kesme ve kademe ilerlemesinin durdurulması cezalarında bir ay içinde disiplin soruşturmasına, memuriyetten çıkarma cezasında altı ay içinde disiplin kovuşturmasına başlanmadığı takdirde di­siplin cezası verme yetkisi zaman aşımına uğrar.”</a:t>
            </a:r>
            <a:r>
              <a:rPr b="0" i="1" lang="en-US" sz="2000" spc="-1" strike="noStrike">
                <a:solidFill>
                  <a:srgbClr val="003300"/>
                </a:solidFill>
                <a:latin typeface="Comic Sans MS"/>
              </a:rPr>
              <a:t> </a:t>
            </a:r>
            <a:r>
              <a:rPr b="0" lang="en-US" sz="2000" spc="-1" strike="noStrike">
                <a:solidFill>
                  <a:srgbClr val="003300"/>
                </a:solidFill>
                <a:latin typeface="Comic Sans MS"/>
              </a:rPr>
              <a:t>şeklindedir. </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8061B525-71BF-41BB-A794-AAB4E1BC2BD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DİSİPLİN CEZALARINDA ZAMANAŞIMI</a:t>
            </a:r>
            <a:endParaRPr b="1" i="1" lang="en-US" sz="3200" spc="-1" strike="noStrike">
              <a:solidFill>
                <a:srgbClr val="003300"/>
              </a:solidFill>
              <a:latin typeface="Comic Sans MS"/>
            </a:endParaRPr>
          </a:p>
        </p:txBody>
      </p:sp>
      <p:sp>
        <p:nvSpPr>
          <p:cNvPr id="16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Ceza vermede zamanaşımı</a:t>
            </a:r>
            <a:r>
              <a:rPr b="0" i="1" lang="en-US" sz="2800" spc="-1" strike="noStrike">
                <a:solidFill>
                  <a:srgbClr val="003300"/>
                </a:solidFill>
                <a:latin typeface="Comic Sans MS"/>
              </a:rPr>
              <a:t>, </a:t>
            </a:r>
            <a:r>
              <a:rPr b="0" lang="en-US" sz="2800" spc="-1" strike="noStrike">
                <a:solidFill>
                  <a:srgbClr val="003300"/>
                </a:solidFill>
                <a:latin typeface="Comic Sans MS"/>
              </a:rPr>
              <a:t>disiplin fiilinin işlendiği tarihten itibaren en geç iki yıl içerisinde soruşturmanın bitirilip ilgili memura gerekli disiplin cezasının uygulanmış olmasını gerektiren zamanaşımıdır. Ceza vermede zamanaşımı, fiilin işlendiği tarihin ertesi gününden itibaren işlemeye başladığından, raporların başlangıç kısmında disiplin fiillerinin işlendiği ve öğrenildiği tarihlerin yıl, ay ve gün olarak açıkça belirtilmesi çok önemli ve gereklidi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A7A76F70-2AC1-4565-A9AE-736508780EC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DİSİPLİN CEZALARINI DÜŞÜREN HALLER</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6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0" lang="en-US" sz="2800" spc="-1" strike="noStrike">
                <a:solidFill>
                  <a:srgbClr val="003300"/>
                </a:solidFill>
                <a:latin typeface="Comic Sans MS"/>
              </a:rPr>
              <a:t>	</a:t>
            </a:r>
            <a:r>
              <a:rPr b="0" lang="en-US" sz="2800" spc="-1" strike="noStrike">
                <a:solidFill>
                  <a:srgbClr val="003300"/>
                </a:solidFill>
                <a:latin typeface="Comic Sans MS"/>
              </a:rPr>
              <a:t>Kusurlu davranışlarından dolayı memurlara uygulanan disiplin cezaları;</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0" lang="en-US" sz="2800" spc="-1" strike="noStrike">
                <a:solidFill>
                  <a:srgbClr val="003300"/>
                </a:solidFill>
                <a:latin typeface="Comic Sans MS"/>
              </a:rPr>
              <a:t>Ceza tebliğinden önce memurun ölmesi,</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0" lang="en-US" sz="2800" spc="-1" strike="noStrike">
                <a:solidFill>
                  <a:srgbClr val="003300"/>
                </a:solidFill>
                <a:latin typeface="Comic Sans MS"/>
              </a:rPr>
              <a:t>Lehte yeni bir kuralın konması,</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0" lang="en-US" sz="2800" spc="-1" strike="noStrike">
                <a:solidFill>
                  <a:srgbClr val="003300"/>
                </a:solidFill>
                <a:latin typeface="Comic Sans MS"/>
              </a:rPr>
              <a:t>Cezanın değişmesi ve fiilin disiplin kusuru olmaktan çıkması,</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0" lang="en-US" sz="2800" spc="-1" strike="noStrike">
                <a:solidFill>
                  <a:srgbClr val="003300"/>
                </a:solidFill>
                <a:latin typeface="Comic Sans MS"/>
              </a:rPr>
              <a:t>Zamanaşımı,</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0" lang="en-US" sz="2800" spc="-1" strike="noStrike">
                <a:solidFill>
                  <a:srgbClr val="003300"/>
                </a:solidFill>
                <a:latin typeface="Comic Sans MS"/>
              </a:rPr>
              <a:t>Disiplinle ilgili af kanunları;</a:t>
            </a:r>
            <a:endParaRPr b="0" lang="en-US" sz="2800" spc="-1" strike="noStrike">
              <a:solidFill>
                <a:srgbClr val="0033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0" lang="en-US" sz="2800" spc="-1" strike="noStrike">
                <a:solidFill>
                  <a:srgbClr val="003300"/>
                </a:solidFill>
                <a:latin typeface="Comic Sans MS"/>
              </a:rPr>
              <a:t> </a:t>
            </a:r>
            <a:r>
              <a:rPr b="0" lang="en-US" sz="2800" spc="-1" strike="noStrike">
                <a:solidFill>
                  <a:srgbClr val="003300"/>
                </a:solidFill>
                <a:latin typeface="Comic Sans MS"/>
              </a:rPr>
              <a:t>ile ortadan kalka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9307A2A6-8C96-4CB4-889A-21EDB01D044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DİSİPLİN CEZALARINDA TEKERRÜR</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Disiplin cezalarında tekerrür hali, 657 sayılı Devlet Memurları Kanununun 125. maddesinde; </a:t>
            </a:r>
            <a:r>
              <a:rPr b="1" i="1" lang="en-US" sz="2800" spc="-1" strike="noStrike">
                <a:solidFill>
                  <a:srgbClr val="003300"/>
                </a:solidFill>
                <a:latin typeface="Comic Sans MS"/>
              </a:rPr>
              <a:t>“Disiplin cezası verilmesine sebep olmuş bir fiil veya halin cezaların­ sicilden silinmesine ilişkin süre içinde tekerrüründe bir derece ağır ceza uygula­nır. Aynı derecede cezayı gerektiren fakat ayrı fiil veya haller nedeniyle verilen disip­lin cezalarının üçüncü uygulamasında bir derece ağır ceza verilir.”</a:t>
            </a:r>
            <a:r>
              <a:rPr b="0" i="1" lang="en-US" sz="2800" spc="-1" strike="noStrike">
                <a:solidFill>
                  <a:srgbClr val="003300"/>
                </a:solidFill>
                <a:latin typeface="Comic Sans MS"/>
              </a:rPr>
              <a:t> </a:t>
            </a:r>
            <a:r>
              <a:rPr b="0" lang="en-US" sz="2800" spc="-1" strike="noStrike">
                <a:solidFill>
                  <a:srgbClr val="003300"/>
                </a:solidFill>
                <a:latin typeface="Comic Sans MS"/>
              </a:rPr>
              <a:t>şeklinde hükme bağlanmıştır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DB6D7E6D-82E8-496D-8D38-3E056C2BAAC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MEMUR SUÇLARI</a:t>
            </a:r>
            <a:endParaRPr b="1" i="1" lang="en-US" sz="3200" spc="-1" strike="noStrike">
              <a:solidFill>
                <a:srgbClr val="003300"/>
              </a:solidFill>
              <a:latin typeface="Comic Sans MS"/>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Suç,</a:t>
            </a:r>
            <a:r>
              <a:rPr b="0" lang="en-US" sz="2400" spc="-1" strike="noStrike">
                <a:solidFill>
                  <a:srgbClr val="003300"/>
                </a:solidFill>
                <a:latin typeface="Comic Sans MS"/>
              </a:rPr>
              <a:t> </a:t>
            </a:r>
            <a:r>
              <a:rPr b="1" lang="en-US" sz="2400" spc="-1" strike="noStrike">
                <a:solidFill>
                  <a:srgbClr val="003300"/>
                </a:solidFill>
                <a:latin typeface="Comic Sans MS"/>
              </a:rPr>
              <a:t>“</a:t>
            </a:r>
            <a:r>
              <a:rPr b="0" lang="en-US" sz="2400" spc="-1" strike="noStrike">
                <a:solidFill>
                  <a:srgbClr val="003300"/>
                </a:solidFill>
                <a:latin typeface="Comic Sans MS"/>
              </a:rPr>
              <a:t>Hukuk nizamının veya ceza kanunlarının ihlali, ahlak düzenini ağır şekilde bozan ve bu sebeple Devletin hoş görmeyeceği bir fiil, her zaman ve her yerde ortalama dürüstlük ve merhamet duygularına tecavüzü ifade eden dav­ranışlar, kanunda yazılı tipe uygun, hukuka aykırı ve müeyyide olarak bir cezanın uygulanmasını gerektiren fiil</a:t>
            </a:r>
            <a:r>
              <a:rPr b="1" lang="en-US" sz="2400" spc="-1" strike="noStrike">
                <a:solidFill>
                  <a:srgbClr val="003300"/>
                </a:solidFill>
                <a:latin typeface="Comic Sans MS"/>
              </a:rPr>
              <a:t>”</a:t>
            </a:r>
            <a:r>
              <a:rPr b="1" i="1" lang="en-US" sz="2400" spc="-1" strike="noStrike">
                <a:solidFill>
                  <a:srgbClr val="003300"/>
                </a:solidFill>
                <a:latin typeface="Comic Sans MS"/>
              </a:rPr>
              <a:t> </a:t>
            </a:r>
            <a:r>
              <a:rPr b="0" lang="en-US" sz="2400" spc="-1" strike="noStrike">
                <a:solidFill>
                  <a:srgbClr val="003300"/>
                </a:solidFill>
                <a:latin typeface="Comic Sans MS"/>
              </a:rPr>
              <a:t>şeklinde tanımlanmıştır.</a:t>
            </a:r>
            <a:endParaRPr b="0" lang="en-US" sz="2400" spc="-1" strike="noStrike">
              <a:solidFill>
                <a:srgbClr val="003300"/>
              </a:solidFill>
              <a:latin typeface="Comic Sans MS"/>
            </a:endParaRPr>
          </a:p>
          <a:p>
            <a:pPr marL="332640" indent="-33264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Hukuk düzeninde yasaklanmış fiil ve hareketler suçu oluşturmaktadır. Bu</a:t>
            </a:r>
            <a:r>
              <a:rPr b="1" lang="en-US" sz="2400" spc="-1" strike="noStrike">
                <a:solidFill>
                  <a:srgbClr val="003300"/>
                </a:solidFill>
                <a:latin typeface="Comic Sans MS"/>
              </a:rPr>
              <a:t> </a:t>
            </a:r>
            <a:r>
              <a:rPr b="0" lang="en-US" sz="2400" spc="-1" strike="noStrike">
                <a:solidFill>
                  <a:srgbClr val="003300"/>
                </a:solidFill>
                <a:latin typeface="Comic Sans MS"/>
              </a:rPr>
              <a:t>nedenle suç, hukuka aykırı bir davranış ifadesi olup, kişi hürriyetini de sınırlandırır.</a:t>
            </a:r>
            <a:endParaRPr b="0" lang="en-US" sz="2400" spc="-1" strike="noStrike">
              <a:solidFill>
                <a:srgbClr val="003300"/>
              </a:solidFill>
              <a:latin typeface="Comic Sans MS"/>
            </a:endParaRPr>
          </a:p>
          <a:p>
            <a:pPr marL="332640" indent="-33264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Suçun oluşması için bir eylemin mevcut olması ve bu eylemin suç olarak belirlenmesi gerekmektedi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E273B867-6854-4D3C-9F4A-5973BE4B023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MEMUR SUÇLARI</a:t>
            </a:r>
            <a:endParaRPr b="1" i="1" lang="en-US" sz="3200" spc="-1" strike="noStrike">
              <a:solidFill>
                <a:srgbClr val="003300"/>
              </a:solidFill>
              <a:latin typeface="Comic Sans MS"/>
            </a:endParaRPr>
          </a:p>
        </p:txBody>
      </p:sp>
      <p:sp>
        <p:nvSpPr>
          <p:cNvPr id="1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Bu açıklamalara göre memur suçlarını;</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Memurların görevleri sebebi ile işledikleri ve ön inceleme raporu düzen­lenmesini gerekli kılan suçlar,</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Ön inceleme raporu düzenlenmeden ve yetkili merciden soruşturma izni ta­lep edilmeden doğrudan Cumhuriyet başsavcılıklarınca genel hükümlere göre işlem yapılmasını gerekli kılan suçlar,</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Soruşturması takibe ve izne bağlı suçlar, </a:t>
            </a:r>
            <a:endParaRPr b="0" lang="en-US" sz="2400" spc="-1" strike="noStrike">
              <a:solidFill>
                <a:srgbClr val="0033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şeklinde gruplandırmak mümkündü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DE1A4107-2A4C-4C3F-AAA3-9748BFBD104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4483 sayılı Kanun Kapsamına Giren Suçlar</a:t>
            </a:r>
            <a:endParaRPr b="1" i="1" lang="en-US" sz="3200" spc="-1" strike="noStrike">
              <a:solidFill>
                <a:srgbClr val="003300"/>
              </a:solidFill>
              <a:latin typeface="Comic Sans MS"/>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	</a:t>
            </a:r>
            <a:r>
              <a:rPr b="1" lang="en-US" sz="2000" spc="-1" strike="noStrike">
                <a:solidFill>
                  <a:srgbClr val="003300"/>
                </a:solidFill>
                <a:latin typeface="Comic Sans MS"/>
              </a:rPr>
              <a:t>	</a:t>
            </a:r>
            <a:r>
              <a:rPr b="1" lang="en-US" sz="2000" spc="-1" strike="noStrike">
                <a:solidFill>
                  <a:srgbClr val="003300"/>
                </a:solidFill>
                <a:latin typeface="Comic Sans MS"/>
              </a:rPr>
              <a:t>4483 sayılı Kanun Kapsamına Giren Suçlar </a:t>
            </a:r>
            <a:r>
              <a:rPr b="0" lang="en-US" sz="2000" spc="-1" strike="noStrike">
                <a:solidFill>
                  <a:srgbClr val="003300"/>
                </a:solidFill>
                <a:latin typeface="Comic Sans MS"/>
              </a:rPr>
              <a:t>(Ön İnceleme Raporu Düzenlenecek) uygulanabilmesi için;</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Kişinin memur olması,</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Bu memurun bir suç işlemesi,</a:t>
            </a:r>
            <a:r>
              <a:rPr b="0" lang="en-US" sz="2000" spc="-1" strike="noStrike">
                <a:solidFill>
                  <a:srgbClr val="003300"/>
                </a:solidFill>
                <a:latin typeface="Comic Sans MS"/>
              </a:rPr>
              <a:t>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Suçun, görev sebebiyle işlenmiş olması,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Her üçünün aynı anda gerçekleşmesi,</a:t>
            </a:r>
            <a:endParaRPr b="0" lang="en-US" sz="2000" spc="-1" strike="noStrike">
              <a:solidFill>
                <a:srgbClr val="0033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	</a:t>
            </a:r>
            <a:r>
              <a:rPr b="0" lang="en-US" sz="2000" spc="-1" strike="noStrike">
                <a:solidFill>
                  <a:srgbClr val="003300"/>
                </a:solidFill>
                <a:latin typeface="Comic Sans MS"/>
              </a:rPr>
              <a:t>gerekmektedir.</a:t>
            </a:r>
            <a:endParaRPr b="0" lang="en-US" sz="2000" spc="-1" strike="noStrike">
              <a:solidFill>
                <a:srgbClr val="0033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	</a:t>
            </a:r>
            <a:r>
              <a:rPr b="0" lang="en-US" sz="2000" spc="-1" strike="noStrike">
                <a:solidFill>
                  <a:srgbClr val="003300"/>
                </a:solidFill>
                <a:latin typeface="Comic Sans MS"/>
              </a:rPr>
              <a:t>	</a:t>
            </a:r>
            <a:r>
              <a:rPr b="0" lang="en-US" sz="2000" spc="-1" strike="noStrike">
                <a:solidFill>
                  <a:srgbClr val="003300"/>
                </a:solidFill>
                <a:latin typeface="Comic Sans MS"/>
              </a:rPr>
              <a:t>Memurların kendilerine mevzuatla yada idari emirlerle verilen görevleri ile ilgili olan, görevleri dolayısıyla işledikleri suçlar “</a:t>
            </a:r>
            <a:r>
              <a:rPr b="1" lang="en-US" sz="2000" spc="-1" strike="noStrike">
                <a:solidFill>
                  <a:srgbClr val="003300"/>
                </a:solidFill>
                <a:latin typeface="Comic Sans MS"/>
              </a:rPr>
              <a:t>görevden doğan suç</a:t>
            </a:r>
            <a:r>
              <a:rPr b="0" lang="en-US" sz="2000" spc="-1" strike="noStrike">
                <a:solidFill>
                  <a:srgbClr val="003300"/>
                </a:solidFill>
                <a:latin typeface="Comic Sans MS"/>
              </a:rPr>
              <a:t>” kapsamı içinde düşünülmelidir. Suçun işlendiği yer ve zaman önemli değildi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340B5C83-9C02-4A61-8E9D-FEFCAFCA4C3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Türk Ceza Kanununda Yer Alan Suçlar</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7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Denetim Görevinin İhmali</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Göreve İlişkin Sırrın Açıklanması</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Kamu Görevlisinin Suçu Bildirmemesi</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Kamu Görevinin Terki veya Yapılmaması</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Kamu Görevlisinin Ticareti</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Görevi Kötüye Kullanma</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Belgede Sahtecilik</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Özel Belgede Sahtecilik</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088DAD0B-5427-43F4-9FF5-20A2BF72D4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4483 sayılı Kanun Kapsamına Girmeyen</a:t>
            </a:r>
            <a:endParaRPr b="1" i="1" lang="en-US" sz="3200" spc="-1" strike="noStrike">
              <a:solidFill>
                <a:srgbClr val="003300"/>
              </a:solidFill>
              <a:latin typeface="Comic Sans MS"/>
            </a:endParaRPr>
          </a:p>
        </p:txBody>
      </p:sp>
      <p:sp>
        <p:nvSpPr>
          <p:cNvPr id="18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	</a:t>
            </a:r>
            <a:r>
              <a:rPr b="1" lang="en-US" sz="2000" spc="-1" strike="noStrike">
                <a:solidFill>
                  <a:srgbClr val="003300"/>
                </a:solidFill>
                <a:latin typeface="Comic Sans MS"/>
              </a:rPr>
              <a:t>	</a:t>
            </a:r>
            <a:r>
              <a:rPr b="1" lang="en-US" sz="2000" spc="-1" strike="noStrike">
                <a:solidFill>
                  <a:srgbClr val="003300"/>
                </a:solidFill>
                <a:latin typeface="Comic Sans MS"/>
              </a:rPr>
              <a:t>4483 sayılı Kanun Kapsamına Girmeyen </a:t>
            </a:r>
            <a:r>
              <a:rPr b="0" lang="en-US" sz="2000" spc="-1" strike="noStrike">
                <a:solidFill>
                  <a:srgbClr val="003300"/>
                </a:solidFill>
                <a:latin typeface="Comic Sans MS"/>
              </a:rPr>
              <a:t>(Ön İnceleme Raporu Düzenlenmeyecek)</a:t>
            </a:r>
            <a:r>
              <a:rPr b="0" i="1" lang="en-US" sz="2000" spc="-1" strike="noStrike">
                <a:solidFill>
                  <a:srgbClr val="003300"/>
                </a:solidFill>
                <a:latin typeface="Comic Sans MS"/>
              </a:rPr>
              <a:t> </a:t>
            </a:r>
            <a:r>
              <a:rPr b="1" lang="en-US" sz="2000" spc="-1" strike="noStrike">
                <a:solidFill>
                  <a:srgbClr val="003300"/>
                </a:solidFill>
                <a:latin typeface="Comic Sans MS"/>
              </a:rPr>
              <a:t>Suçla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Soruşturma usulü 4483 sayılı Kanuna tabi olan memurların görevleri ile ilgili olarak işledikleri bazı suçlar, özel hükümler nedeni ile ayrı bir kovuşturma usulüne tabidir. Bu suçlar ve bunlara ilişkin özel hükümler aşağıda sıralanmıştır. Müfettiş ve muhakkiklerin bu kapsamdaki bir fiille karşılaşmaları halinde, durumu belge ve delilleri ile Cumhuriyet başsavcılığına intikal ettirmeleri, ayrıca düzenleyecekleri idari soruştur­ma (disiplin soruşturma) raporunu, bağlı bulundukları makama sunmaları gerekmektedi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7A7CC02E-278C-4293-8699-5A45161112A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6094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Comic Sans MS"/>
              </a:rPr>
              <a:t>3628 Sayılı Mal Bildiriminde Bulunulması, Rüşvet ve Yolsuzluklarla Mücadele Kanununda</a:t>
            </a:r>
            <a:br>
              <a:rPr sz="2800"/>
            </a:br>
            <a:r>
              <a:rPr b="1" i="1" lang="en-US" sz="2800" spc="-1" strike="noStrike">
                <a:solidFill>
                  <a:srgbClr val="003300"/>
                </a:solidFill>
                <a:latin typeface="Comic Sans MS"/>
              </a:rPr>
              <a:t> Yer Alan Suçlar</a:t>
            </a:r>
            <a:br>
              <a:rPr sz="2800"/>
            </a:br>
            <a:endParaRPr b="1" i="1" lang="en-US" sz="2800" spc="-1" strike="noStrike">
              <a:solidFill>
                <a:srgbClr val="003300"/>
              </a:solidFill>
              <a:latin typeface="Comic Sans MS"/>
            </a:endParaRPr>
          </a:p>
        </p:txBody>
      </p:sp>
      <p:sp>
        <p:nvSpPr>
          <p:cNvPr id="18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Zimmet</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İrtikâp</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Rüşvet</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Devlet Sırlarına Karşı Suçlar ve Casusluk</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Mal Bildiriminde Bulunulmaması, Gerçeğe Aykırı Açıklama, Gerçeğe Aykırı Bildirimde Bulunma, Haksız Mal Edinme, Mal Kaçırma veya Gizleme</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5ABEE635-2B3C-467B-BA6F-6568BB1A8E0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00"/>
                </a:solidFill>
                <a:latin typeface="Comic Sans MS"/>
              </a:rPr>
              <a:t>Teftiş</a:t>
            </a:r>
            <a:endParaRPr b="1" i="1" lang="en-US" sz="4400" spc="-1" strike="noStrike">
              <a:solidFill>
                <a:srgbClr val="003300"/>
              </a:solidFill>
              <a:latin typeface="Comic Sans MS"/>
            </a:endParaRPr>
          </a:p>
        </p:txBody>
      </p:sp>
      <p:sp>
        <p:nvSpPr>
          <p:cNvPr id="113" name="PlaceHolder 2"/>
          <p:cNvSpPr>
            <a:spLocks noGrp="1"/>
          </p:cNvSpPr>
          <p:nvPr>
            <p:ph/>
          </p:nvPr>
        </p:nvSpPr>
        <p:spPr>
          <a:xfrm>
            <a:off x="304920" y="1295280"/>
            <a:ext cx="8610480" cy="4572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  </a:t>
            </a:r>
            <a:r>
              <a:rPr b="0" lang="en-US" sz="2800" spc="-1" strike="noStrike">
                <a:solidFill>
                  <a:srgbClr val="003300"/>
                </a:solidFill>
                <a:latin typeface="Comic Sans MS"/>
              </a:rPr>
              <a:t>Denetime tabi olan kişi, kurum ve kuruluşlarca belli bir dönemde gerçekleştirilen iş, işlem ve  hizmetlerin mevzuatla belirlenen amaç, esas  ve kurallar doğrultusunda yürütülüp yürütülmediğinin belge ve kayıtlar üzerinde incelenmesi, mevzuat ve kurallara uymayan kişi, kurum   ve kuruluşlara yaptırım ya da ceza uygulanmasıdır. Bu nedenle teftiş “mevzuat denetimi”, “bürokratik denetim” olarak da adlandırılabili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F7D39032-C7F9-41A7-8136-E2B8A4A0D64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Diğer Kanunlarda Yer Alan Bazı Fiiller ve Suçlar</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Bakanlığımız mensuplarından, Atatürk Aleyhine İşlenen Suçlar Hakkında Kanunun 1. maddesinde yazılı suçla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Seçimlerin Temel Hükümleri ve Seçmen Kütükleri Hakkında Kanunda yazılı suçla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Millî Korunma Kanununun 64. maddesi ile bu Kanunun uygulanmasına ilişkin suçla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1402 sayılı Sıkı Yönetim Kanununun 14 ve l5.maddelerinde yer alan suçla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3713 sayılı Terörle Mücadele Kanunu kapsamındaki suçla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2935 sayılı Olağanüstü Hal Kanunu kapsamındaki suçla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2547 sayılı Yüksek Öğretim Kanunu kapsamındaki suçla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Ağır cezayı gerektiren suçüstü halleri.</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1118F7DB-C1A0-4A21-83BC-A7DCEC6D125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akibi Şikâyete Bağlı Suçlar</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00"/>
                </a:solidFill>
                <a:latin typeface="Comic Sans MS"/>
              </a:rPr>
              <a:t> </a:t>
            </a:r>
            <a:r>
              <a:rPr b="0" lang="tr-TR" sz="2000" spc="-1" strike="noStrike">
                <a:solidFill>
                  <a:srgbClr val="003300"/>
                </a:solidFill>
                <a:latin typeface="Comic Sans MS"/>
              </a:rPr>
              <a:t>CMK’nın 158. maddesine göre; suça ilişkin ihbar veya şikâyet, Cumhuriyet Başsavcılığına veya kolluk makamlarına yapılabilir. Valilik veya kaymakamlığa ya da mahkemeye yapılan ihbar veya şikâyet, ilgili Cumhuriyet Başsavcılığına gönderilir. Bir kamu görevinin yürütülmesiyle bağlantılı olarak işlendiği iddia edilen bir suç nedeniyle, ilgili kurum ve kuruluş idaresine yapılan ihbar veya şikâyet, gecikmeksizin ilgili Cumhuriyet Başsavcılığına gönderilir. İhbar veya şikâyet yazılı veya tutanağa geçirilmek üzere sözlü olarak yapılabilir.  Yürütülen soruşturma sonucunda kovuşturma evresine geçildikten sonra suçun şikâyete bağlı olduğunun anlaşılması halinde; mağdur açıkça şikâyetten vazgeçmediği takdirde, yargılamaya devam olunu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00"/>
                </a:solidFill>
                <a:latin typeface="Comic Sans MS"/>
              </a:rPr>
              <a:t>Suçların failleri hakkında soruşturma açılması </a:t>
            </a:r>
            <a:r>
              <a:rPr b="0" lang="tr-TR" sz="2000" spc="-1" strike="noStrike" u="sng">
                <a:solidFill>
                  <a:srgbClr val="003300"/>
                </a:solidFill>
                <a:uFillTx/>
                <a:latin typeface="Comic Sans MS"/>
              </a:rPr>
              <a:t>suçtan zarar gören kimselerin (mağdur) şikâyetine bağlıdı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545F7C84-0729-43A2-9112-1E1DF5772BA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akibi Şikâyete Bağlı Suçlar</a:t>
            </a:r>
            <a:endParaRPr b="1" i="1" lang="en-US" sz="3200" spc="-1" strike="noStrike">
              <a:solidFill>
                <a:srgbClr val="003300"/>
              </a:solidFill>
              <a:latin typeface="Comic Sans MS"/>
            </a:endParaRPr>
          </a:p>
        </p:txBody>
      </p:sp>
      <p:sp>
        <p:nvSpPr>
          <p:cNvPr id="1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1" lang="en-US" sz="2800" spc="-1" strike="noStrike">
                <a:solidFill>
                  <a:srgbClr val="003300"/>
                </a:solidFill>
                <a:latin typeface="Comic Sans MS"/>
              </a:rPr>
              <a:t>“</a:t>
            </a:r>
            <a:r>
              <a:rPr b="1" lang="en-US" sz="2800" spc="-1" strike="noStrike">
                <a:solidFill>
                  <a:srgbClr val="003300"/>
                </a:solidFill>
                <a:latin typeface="Comic Sans MS"/>
              </a:rPr>
              <a:t>Cinsel Saldırı”,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 “</a:t>
            </a:r>
            <a:r>
              <a:rPr b="1" lang="en-US" sz="2800" spc="-1" strike="noStrike">
                <a:solidFill>
                  <a:srgbClr val="003300"/>
                </a:solidFill>
                <a:latin typeface="Comic Sans MS"/>
              </a:rPr>
              <a:t>Reşit Olmayanla Cinsel İlişki”,</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 ‘</a:t>
            </a:r>
            <a:r>
              <a:rPr b="1" lang="en-US" sz="2800" spc="-1" strike="noStrike">
                <a:solidFill>
                  <a:srgbClr val="003300"/>
                </a:solidFill>
                <a:latin typeface="Comic Sans MS"/>
              </a:rPr>
              <a:t>Cinsel Taciz’,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 </a:t>
            </a:r>
            <a:r>
              <a:rPr b="0" lang="en-US" sz="2800" spc="-1" strike="noStrike">
                <a:solidFill>
                  <a:srgbClr val="003300"/>
                </a:solidFill>
                <a:latin typeface="Comic Sans MS"/>
              </a:rPr>
              <a:t>“</a:t>
            </a:r>
            <a:r>
              <a:rPr b="1" lang="en-US" sz="2800" spc="-1" strike="noStrike">
                <a:solidFill>
                  <a:srgbClr val="003300"/>
                </a:solidFill>
                <a:latin typeface="Comic Sans MS"/>
              </a:rPr>
              <a:t>Tehdit”,</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 “</a:t>
            </a:r>
            <a:r>
              <a:rPr b="1" lang="en-US" sz="2800" spc="-1" strike="noStrike">
                <a:solidFill>
                  <a:srgbClr val="003300"/>
                </a:solidFill>
                <a:latin typeface="Comic Sans MS"/>
              </a:rPr>
              <a:t>Konut Dokunulmazlığının İhlali”,</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 “</a:t>
            </a:r>
            <a:r>
              <a:rPr b="1" lang="en-US" sz="2800" spc="-1" strike="noStrike">
                <a:solidFill>
                  <a:srgbClr val="003300"/>
                </a:solidFill>
                <a:latin typeface="Comic Sans MS"/>
              </a:rPr>
              <a:t>Kasten Yaralama”</a:t>
            </a:r>
            <a:r>
              <a:rPr b="0" lang="en-US" sz="2800" spc="-1" strike="noStrike">
                <a:solidFill>
                  <a:srgbClr val="003300"/>
                </a:solidFill>
                <a:latin typeface="Comic Sans MS"/>
              </a:rPr>
              <a:t>,</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1" lang="en-US" sz="2800" spc="-1" strike="noStrike">
                <a:solidFill>
                  <a:srgbClr val="003300"/>
                </a:solidFill>
                <a:latin typeface="Comic Sans MS"/>
              </a:rPr>
              <a:t>‘</a:t>
            </a:r>
            <a:r>
              <a:rPr b="1" lang="en-US" sz="2800" spc="-1" strike="noStrike">
                <a:solidFill>
                  <a:srgbClr val="003300"/>
                </a:solidFill>
                <a:latin typeface="Comic Sans MS"/>
              </a:rPr>
              <a:t>Hakaret”</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a:t>
            </a:r>
            <a:r>
              <a:rPr b="1" lang="en-US" sz="2800" spc="-1" strike="noStrike">
                <a:solidFill>
                  <a:srgbClr val="003300"/>
                </a:solidFill>
                <a:latin typeface="Comic Sans MS"/>
              </a:rPr>
              <a:t>Haberleşmenin Gizliliğini İhlal”</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C67B655F-A920-4709-8534-F70A5B451FD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akibi Şikâyete Bağlı Suçlar</a:t>
            </a:r>
            <a:endParaRPr b="1" i="1" lang="en-US" sz="3200" spc="-1" strike="noStrike">
              <a:solidFill>
                <a:srgbClr val="003300"/>
              </a:solidFill>
              <a:latin typeface="Comic Sans MS"/>
            </a:endParaRPr>
          </a:p>
        </p:txBody>
      </p:sp>
      <p:sp>
        <p:nvSpPr>
          <p:cNvPr id="19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a:t>
            </a:r>
            <a:r>
              <a:rPr b="1" lang="en-US" sz="2400" spc="-1" strike="noStrike">
                <a:solidFill>
                  <a:srgbClr val="003300"/>
                </a:solidFill>
                <a:latin typeface="Comic Sans MS"/>
              </a:rPr>
              <a:t>Kişiler arasındaki konuşmaların dinlenmesi ve kayda alınması”</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1" lang="en-US" sz="2400" spc="-1" strike="noStrike">
                <a:solidFill>
                  <a:srgbClr val="003300"/>
                </a:solidFill>
                <a:latin typeface="Comic Sans MS"/>
              </a:rPr>
              <a:t>“</a:t>
            </a:r>
            <a:r>
              <a:rPr b="1" lang="en-US" sz="2400" spc="-1" strike="noStrike">
                <a:solidFill>
                  <a:srgbClr val="003300"/>
                </a:solidFill>
                <a:latin typeface="Comic Sans MS"/>
              </a:rPr>
              <a:t>Özel hayatın gizliliğini ihlal”;</a:t>
            </a:r>
            <a:r>
              <a:rPr b="0" lang="en-US" sz="2400" spc="-1" strike="noStrike">
                <a:solidFill>
                  <a:srgbClr val="003300"/>
                </a:solidFill>
                <a:latin typeface="Comic Sans MS"/>
              </a:rPr>
              <a:t>         </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1" lang="en-US" sz="2400" spc="-1" strike="noStrike">
                <a:solidFill>
                  <a:srgbClr val="003300"/>
                </a:solidFill>
                <a:latin typeface="Comic Sans MS"/>
              </a:rPr>
              <a:t>“</a:t>
            </a:r>
            <a:r>
              <a:rPr b="1" lang="en-US" sz="2400" spc="-1" strike="noStrike">
                <a:solidFill>
                  <a:srgbClr val="003300"/>
                </a:solidFill>
                <a:latin typeface="Comic Sans MS"/>
              </a:rPr>
              <a:t>Hırsızlık ve Dolandırıcılık”</a:t>
            </a:r>
            <a:r>
              <a:rPr b="0" lang="en-US" sz="2400" spc="-1" strike="noStrike">
                <a:solidFill>
                  <a:srgbClr val="003300"/>
                </a:solidFill>
                <a:latin typeface="Comic Sans MS"/>
              </a:rPr>
              <a:t>,</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1" lang="en-US" sz="2400" spc="-1" strike="noStrike">
                <a:solidFill>
                  <a:srgbClr val="003300"/>
                </a:solidFill>
                <a:latin typeface="Comic Sans MS"/>
              </a:rPr>
              <a:t>“</a:t>
            </a:r>
            <a:r>
              <a:rPr b="1" lang="en-US" sz="2400" spc="-1" strike="noStrike">
                <a:solidFill>
                  <a:srgbClr val="003300"/>
                </a:solidFill>
                <a:latin typeface="Comic Sans MS"/>
              </a:rPr>
              <a:t>Mala Zarar Verme”,</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1" lang="en-US" sz="2400" spc="-1" strike="noStrike">
                <a:solidFill>
                  <a:srgbClr val="003300"/>
                </a:solidFill>
                <a:latin typeface="Comic Sans MS"/>
              </a:rPr>
              <a:t>“</a:t>
            </a:r>
            <a:r>
              <a:rPr b="1" lang="en-US" sz="2400" spc="-1" strike="noStrike">
                <a:solidFill>
                  <a:srgbClr val="003300"/>
                </a:solidFill>
                <a:latin typeface="Comic Sans MS"/>
              </a:rPr>
              <a:t>Güveni Kötüye Kullanma”</a:t>
            </a:r>
            <a:r>
              <a:rPr b="0" lang="en-US" sz="2400" spc="-1" strike="noStrike">
                <a:solidFill>
                  <a:srgbClr val="003300"/>
                </a:solidFill>
                <a:latin typeface="Comic Sans MS"/>
              </a:rPr>
              <a:t>,</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 “</a:t>
            </a:r>
            <a:r>
              <a:rPr b="1" lang="en-US" sz="2400" spc="-1" strike="noStrike">
                <a:solidFill>
                  <a:srgbClr val="003300"/>
                </a:solidFill>
                <a:latin typeface="Comic Sans MS"/>
              </a:rPr>
              <a:t>İş ve Çalışma Hürriyetinin İhlali”,</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 “</a:t>
            </a:r>
            <a:r>
              <a:rPr b="1" lang="en-US" sz="2400" spc="-1" strike="noStrike">
                <a:solidFill>
                  <a:srgbClr val="003300"/>
                </a:solidFill>
                <a:latin typeface="Comic Sans MS"/>
              </a:rPr>
              <a:t>Kişilerin huzur ve sükununu bozma”,</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 “</a:t>
            </a:r>
            <a:r>
              <a:rPr b="1" lang="en-US" sz="2400" spc="-1" strike="noStrike">
                <a:solidFill>
                  <a:srgbClr val="003300"/>
                </a:solidFill>
                <a:latin typeface="Comic Sans MS"/>
              </a:rPr>
              <a:t>Kaybolmuş veya hata sonucu ele geçmiş eşya üzerinde tasarruf”,</a:t>
            </a:r>
            <a:endParaRPr b="0" lang="en-US" sz="2400" spc="-1" strike="noStrike">
              <a:solidFill>
                <a:srgbClr val="0033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F24B653E-31CE-484B-AC29-8ADE0EDC0EB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Soruşturulması İzne  Bağlı Suçlar</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9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a:t>
            </a:r>
            <a:r>
              <a:rPr b="1" lang="en-US" sz="2800" spc="-1" strike="noStrike">
                <a:solidFill>
                  <a:srgbClr val="003300"/>
                </a:solidFill>
                <a:latin typeface="Comic Sans MS"/>
              </a:rPr>
              <a:t>Cumhurbaşkanına hakaret</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Yabancı Devletlerle Olan İlişkilere Karşı Suçlar”</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a:t>
            </a:r>
            <a:r>
              <a:rPr b="1" lang="en-US" sz="2800" spc="-1" strike="noStrike">
                <a:solidFill>
                  <a:srgbClr val="003300"/>
                </a:solidFill>
                <a:latin typeface="Comic Sans MS"/>
              </a:rPr>
              <a:t>Uluslararası Suçlar</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a:t>
            </a:r>
            <a:r>
              <a:rPr b="1" lang="en-US" sz="2800" spc="-1" strike="noStrike">
                <a:solidFill>
                  <a:srgbClr val="003300"/>
                </a:solidFill>
                <a:latin typeface="Comic Sans MS"/>
              </a:rPr>
              <a:t>Devletin Güvenliğine Karşı Suçlar</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0" lang="en-US" sz="2800" spc="-1" strike="noStrike">
                <a:solidFill>
                  <a:srgbClr val="003300"/>
                </a:solidFill>
                <a:latin typeface="Comic Sans MS"/>
              </a:rPr>
              <a:t>	</a:t>
            </a:r>
            <a:r>
              <a:rPr b="0" lang="en-US" sz="2800" spc="-1" strike="noStrike">
                <a:solidFill>
                  <a:srgbClr val="003300"/>
                </a:solidFill>
                <a:latin typeface="Comic Sans MS"/>
              </a:rPr>
              <a:t>Yukarıda belirtilen suçlardan birisinin işlendiğini öğrenen müfettiş, durumu ilgili Cumhuriyet Başsavcılığına bildirmelidir.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68F4FE6A-8E6E-41C9-B800-CCF19E1279E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7200" y="1981080"/>
            <a:ext cx="8229600" cy="198144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Comic Sans MS"/>
              </a:rPr>
              <a:t>İNCELEME, SORUŞTURMA </a:t>
            </a:r>
            <a:endParaRPr b="0" lang="en-US" sz="4000" spc="-1" strike="noStrike">
              <a:solidFill>
                <a:srgbClr val="003300"/>
              </a:solidFill>
              <a:latin typeface="Comic Sans MS"/>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Comic Sans MS"/>
              </a:rPr>
              <a:t>VE ÖN İNCELEME</a:t>
            </a:r>
            <a:endParaRPr b="0" lang="en-US" sz="4000" spc="-1" strike="noStrike">
              <a:solidFill>
                <a:srgbClr val="003300"/>
              </a:solidFill>
              <a:latin typeface="Comic Sans MS"/>
            </a:endParaRPr>
          </a:p>
        </p:txBody>
      </p:sp>
      <p:sp>
        <p:nvSpPr>
          <p:cNvPr id="3" name="PlaceHolder 2"/>
          <p:cNvSpPr>
            <a:spLocks noGrp="1"/>
          </p:cNvSpPr>
          <p:nvPr>
            <p:ph type="sldNum" idx="2"/>
          </p:nvPr>
        </p:nvSpPr>
        <p:spPr/>
        <p:txBody>
          <a:bodyPr/>
          <a:p>
            <a:fld id="{92287104-7497-4015-809E-6F85BE65176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İNCELEME VE SORUŞTURMA İŞLEMİNİN ANLAMI</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9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Kamu görevini yürüten memur, öğretmen ve yöneticilerimizden kurallara bi­lerek veya bilmeyerek uymayanlara, yani kusur ve suç işleyenlere zaman zaman rastlanılmaktadır. Böyle durumlarda kanunlara dayandırılan yetki ile ilgililerin kanunlara uyulması sağlanacak ve gerektiğinde de cezai yaptırımlara başvurulacaktır. Devlet yönetiminin ve kamu hizmetlerinin sağlıklı ve verimli bir düzeyde sürdürüle­bilmesi için inceleme ve soruşturmalar yapılarak sorumlular hakkında gerekli işlem­lere yönelin ilecekti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68C04B0E-A0BD-40EA-9935-AFABD11F967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İNCELEME VE SORUŞTURMA İŞLEMİNİN ANLAMI</a:t>
            </a:r>
            <a:endParaRPr b="1" i="1" lang="en-US" sz="3600" spc="-1" strike="noStrike">
              <a:solidFill>
                <a:srgbClr val="003300"/>
              </a:solidFill>
              <a:latin typeface="Comic Sans MS"/>
            </a:endParaRPr>
          </a:p>
        </p:txBody>
      </p:sp>
      <p:sp>
        <p:nvSpPr>
          <p:cNvPr id="1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Hakkın ve adaletin tecellisine imkan verme, idarî ve adlî karar mercilerini ya­nıltmama, suçlu ve suçsuzları birbirinden ayırma bakımından, müfettişlerin inceleme ve soruşturmalar sırasında yapacakları iş ve gösterecekleri çaba büyük önem taşı­maktadır. Hizmetin en iyi ve hukuka uygun şekilde yürütülebilmesi için inceleme ve soruşturmacıların devamlı olarak hukuk kaynaklarına başvurması, bilgilerini yeni ve değişen mevzuatla beslemeleri gerekmektedi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3B4B0506-6E7B-4322-85A9-6BB72C80C90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İNCELEME VE SORUŞTURMA İŞLEMİNİN ANLAMI</a:t>
            </a:r>
            <a:endParaRPr b="1" i="1" lang="en-US" sz="3600" spc="-1" strike="noStrike">
              <a:solidFill>
                <a:srgbClr val="003300"/>
              </a:solidFill>
              <a:latin typeface="Comic Sans MS"/>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İnceleme ve soruşturma işleri; soruşturmacının, kanun, tüzük ve yönetmelik bilgi­leri yanında, konu hakkındaki soruşturma ile ilgili teknik bilgileri, tecrübe, dikkatli şekilde inceleme yaparak materyal toplama, bunları hukuk usul ve prensipleri dahi­linde tespit ve muhakeme etmeleri ile daha da bir anlam kazanır.</a:t>
            </a:r>
            <a:r>
              <a:rPr b="0" lang="en-US" sz="2800" spc="-1" strike="noStrike">
                <a:solidFill>
                  <a:srgbClr val="003300"/>
                </a:solidFill>
                <a:latin typeface="Comic Sans MS"/>
              </a:rPr>
              <a:t>	</a:t>
            </a:r>
            <a:r>
              <a:rPr b="0" lang="en-US" sz="2800" spc="-1" strike="noStrike">
                <a:solidFill>
                  <a:srgbClr val="003300"/>
                </a:solidFill>
                <a:latin typeface="Comic Sans MS"/>
              </a:rPr>
              <a:t>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3FA9B00A-ABC4-4C6B-A632-E1DB7E77CED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İNCELEME VE SORUŞTURMA KONULARI VE ÇEŞİTLERİ</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20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	</a:t>
            </a:r>
            <a:r>
              <a:rPr b="1" lang="en-US" sz="2400" spc="-1" strike="noStrike">
                <a:solidFill>
                  <a:srgbClr val="003300"/>
                </a:solidFill>
                <a:latin typeface="Comic Sans MS"/>
              </a:rPr>
              <a:t>	</a:t>
            </a:r>
            <a:r>
              <a:rPr b="1" lang="en-US" sz="2400" spc="-1" strike="noStrike">
                <a:solidFill>
                  <a:srgbClr val="003300"/>
                </a:solidFill>
                <a:latin typeface="Comic Sans MS"/>
              </a:rPr>
              <a:t>Bakanlığımız kurum ve kuruluşlarında görev yapan elemanlar hakkında inceleme ve soruşturma yapılmasını gerektiren fiil ve haller, eylemler;</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Türk Ceza Kanununda ve ceza hükümlü diğer özel kanunlarda açık olarak suç sayılan hareketler,</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657 sayılı Devlet Memurları Kanununun 125. maddesinde ve 1702, 4357 ve 625 sayılı özel kanunlarda belirlenen, memuriyet ve mesleki yönden yasaklanmış fiil ve haller,olmak üzere iki kısımda toplamak mümkündü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4AEB8640-C246-43F6-842B-BA897DCE9E1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Teftişin başarı derecesinin saptanması ve sonuçları hakkında bir karara varılabilmesi  için önceden planlanmış olması gerekir. </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00"/>
                </a:solidFill>
                <a:uFillTx/>
                <a:latin typeface="Comic Sans MS"/>
              </a:rPr>
              <a:t>Planlama</a:t>
            </a:r>
            <a:r>
              <a:rPr b="0" lang="en-US" sz="2800" spc="-1" strike="noStrike">
                <a:solidFill>
                  <a:srgbClr val="003300"/>
                </a:solidFill>
                <a:latin typeface="Comic Sans MS"/>
              </a:rPr>
              <a:t>; amaçlara eldeki olanaklardan  yararlanarak ulaşmak üzere izlenecek politikaların tayin edilmesidir.</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Teftişi planlamanın ilk amacı </a:t>
            </a:r>
            <a:r>
              <a:rPr b="0" lang="en-US" sz="2800" spc="-1" strike="noStrike" u="sng">
                <a:solidFill>
                  <a:srgbClr val="003300"/>
                </a:solidFill>
                <a:uFillTx/>
                <a:latin typeface="Comic Sans MS"/>
              </a:rPr>
              <a:t>amaçları saptamaktır.</a:t>
            </a:r>
            <a:endParaRPr b="0" lang="en-US" sz="2800" spc="-1" strike="noStrike">
              <a:solidFill>
                <a:srgbClr val="0033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Comic Sans MS"/>
            </a:endParaRPr>
          </a:p>
        </p:txBody>
      </p:sp>
      <p:sp>
        <p:nvSpPr>
          <p:cNvPr id="115" name=""/>
          <p:cNvSpPr/>
          <p:nvPr/>
        </p:nvSpPr>
        <p:spPr>
          <a:xfrm>
            <a:off x="1508040" y="800280"/>
            <a:ext cx="5730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eftişin Planlanması</a:t>
            </a:r>
            <a:endParaRPr b="0" lang="en-US" sz="3200" spc="-1" strike="noStrike">
              <a:solidFill>
                <a:srgbClr val="003300"/>
              </a:solidFill>
              <a:latin typeface="Arial Unicode MS"/>
            </a:endParaRPr>
          </a:p>
        </p:txBody>
      </p:sp>
      <p:sp>
        <p:nvSpPr>
          <p:cNvPr id="3" name="PlaceHolder 2"/>
          <p:cNvSpPr>
            <a:spLocks noGrp="1"/>
          </p:cNvSpPr>
          <p:nvPr>
            <p:ph type="sldNum" idx="2"/>
          </p:nvPr>
        </p:nvSpPr>
        <p:spPr/>
        <p:txBody>
          <a:bodyPr/>
          <a:p>
            <a:fld id="{49477F7E-A598-4BD1-AD93-2E3DA447E1C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MÜFETTİŞLERİN SORUŞTURMA YAPMA SIFAT VE YETKİLERİ</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20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Anayasamızın 6. maddesi , 42. maddesinde, 129. maddesinde , 3797 sayılı Millî Eğitim Bakanlığının Teşkilat ve Görevleri Hakkında Kanu­nun 2. maddesinde , 1739 sayılı Milli Eğitim Temel Kanununun 56. maddesinde , 625 sayılı Özel Öğretim Kurumları Kanununun 43 ve 44. maddelerinde , 3797 sayılı Millî Eğitim Bakanlığının Teşkilat ve Görevleri Hakkında Kanunun 27. maddesinde , Millî Eğitim Bakanlığı Teftiş Kurulu Tüzüğünün 8. maddesinde  müfettişlerin yetkilerinin Anayasadan tüzüğe kadar uzanan hukukî dayanakları ortaya konulmuş olmaktadı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CB743A67-5FA3-4C9F-BBD2-13C9F515A23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MÜFETTİŞLERİN SORUŞTURMA YAPMA SIFAT VE YETKİLERİ</a:t>
            </a:r>
            <a:endParaRPr b="1" i="1" lang="en-US" sz="3200" spc="-1" strike="noStrike">
              <a:solidFill>
                <a:srgbClr val="003300"/>
              </a:solidFill>
              <a:latin typeface="Comic Sans MS"/>
            </a:endParaRPr>
          </a:p>
        </p:txBody>
      </p:sp>
      <p:sp>
        <p:nvSpPr>
          <p:cNvPr id="2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3300"/>
                </a:solidFill>
                <a:latin typeface="Comic Sans MS"/>
              </a:rPr>
              <a:t>Kamu hizmetlerinin yürütülmesinden kaynaklanan ve görev sebebiyle işlenen suçlardan dolayı 4483 sayılı Kanunun 5. maddesi gereğince ön inceleme yapılması istenildiğinde, bu iş için görevlendirilen müfettişler, CMK’nın ilgili hükümlerinde belirtilen usul ve esaslar dahilinde, tanık çağırmak, davetiye çıkarmak, ilgilileri dinlemek, gerekli evrakın asıl veya suretlerini almak, bilgi toplamak, ilgili kişilerle görüşmek gibi yetkileri kullanarak görevlerini yürütürler </a:t>
            </a:r>
            <a:endParaRPr b="0" lang="en-US" sz="2800" spc="-1" strike="noStrike">
              <a:solidFill>
                <a:srgbClr val="0033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747101D3-797A-4A7F-9C0D-F94CE1042B3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MÜFETTİŞLERİN SORUŞTURMA YAPMA SIFAT VE YETKİLERİ</a:t>
            </a:r>
            <a:endParaRPr b="1" i="1" lang="en-US" sz="3200" spc="-1" strike="noStrike">
              <a:solidFill>
                <a:srgbClr val="003300"/>
              </a:solidFill>
              <a:latin typeface="Comic Sans MS"/>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Müfettişler herhangi bir iddianın incelenip soruşturulmasına, yetkili makamın bu konudaki emri/onayı üzerine başlarlar. Bir müfettiş, hangi fiil ve halden ve/veya suçtan dolayı hangi memur ve/veya kamu görevlisine yönelik “inceleme-soruşturma” ve/veya “ön inceleme” yapmakla görevlendirilmişse, sadece o memur/kamu görevlisi hakkında onayda belirtilen hususlar/iddialar bağlamında işlem yapmalıdır.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B45ED0B0-58ED-4D12-886C-350E5FC3146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MÜFETTİŞLERİN SORUŞTURMA YAPMA SIFAT VE YETKİLERİ</a:t>
            </a:r>
            <a:endParaRPr b="1" i="1" lang="en-US" sz="3200" spc="-1" strike="noStrike">
              <a:solidFill>
                <a:srgbClr val="003300"/>
              </a:solidFill>
              <a:latin typeface="Comic Sans MS"/>
            </a:endParaRPr>
          </a:p>
        </p:txBody>
      </p:sp>
      <p:sp>
        <p:nvSpPr>
          <p:cNvPr id="2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Çalışmalar sırasında yeni suç konularının ortaya çıkması ve bunların 4483 sayılı Kanun kapsamında bulunması durumunda, bu yeni bulgular, varsa belgeleri ile birlikte soruşturma izni vermeye yetkili mercie bir yazı ekinde iletilmelidir. 4483 sayılı Kanun kapsamında olmayan suç konularıyla karşılaşıldığında ise durum usulünce ilgili makama/mercie duyurulmalıdır. Ayrıca, her iki durumda da konunun disiplin boyutunun soruşturulması için Makamdan onay istenmelidi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89EB9DCA-50C7-44A3-BBF6-DB8161F74E0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İNCELEME, SORUŞTURMA VE ÖN İNCELEME EMRİ VEREBİLECEK MAKAMLAR</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2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Milli Eğitim Bakanlığı teşkilatında ise; disiplin amiri ve atamaya yetkili amir sıfatıyla bakanlık teşkilatı ile bağlı kuruluşlarda ve okullarda görevli tüm memurların “disiplin amiri” ve “atamaya yetkili amiri” olarak Bakan; bakanlıkta “en üst disiplin amiri” olarak müsteşar; illerde “en üst disiplin amiri” olarak valiler; ilçelerde “en üst disiplin amiri” olarak kaymakamlar; hizmet birimlerinde birim amirleri; okul ve kurumlarda müdürler; “disiplin amiri” veya “üst disiplin amiri” sıfatıyla, buralarda görevli memurlar hakkında doğrudan inceleme-soruşturma yapmaya yetkilidirler. Bu amirler,  emirleri altında bulunan ve hakkında inceleme-soruşturma yapılanın hiyerarşi yönünden dengi veya üstü konumunda bulunan memurları usulünce “muhakkik/soruşturmacı” olarak görevlendirmek/görevlendirilmesini sağlamak suretiyle de dolaylı olarak inceleme-soruşturma yaptırabilirler. </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8A514ACA-6D07-4C7C-8E4F-24FBD4C36E3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İNCELEME, SORUŞTURMA VE ÖN İNCELEME EMRİ VEREBİLECEK MAKAMLAR</a:t>
            </a:r>
            <a:endParaRPr b="1" i="1" lang="en-US" sz="3200" spc="-1" strike="noStrike">
              <a:solidFill>
                <a:srgbClr val="003300"/>
              </a:solidFill>
              <a:latin typeface="Comic Sans MS"/>
            </a:endParaRPr>
          </a:p>
        </p:txBody>
      </p:sp>
      <p:sp>
        <p:nvSpPr>
          <p:cNvPr id="2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Bakanlık Müfettişleri; Bakanın emri ya da onayı üzerine, Bakan adına, disiplin hukuku ve/veya diğer ilgili mevzuat yönünden inceleme-soruşturma çalışmalarını yürütürler. </a:t>
            </a: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562D7848-2F9B-40CE-A61A-C1C35A142A8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ÖN İNCELEME VE SORUŞTURMA EMİRLERİNDE DİKKATE ALINMASI GEREKLİ HUSUSLAR</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2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İdareye veya doğrudan ilgili makam ve yetkili mercie yazılı ve/veya sözlü intikal eden ihbar, müracaat ve şikayet konuları tümüyle ve titizlikle, önce usul hükümlerini içeren mevzuata, bilahare gerektiğinde esas hükümlerini içeren mevzuata göre incelenmelidir.                                                                                                                                                             İsimsiz, adressiz, imzasız ve verildiği makam yanlış olan dilekçeler, 3071 sayılı Dilekçe Hakkının Kullanılması Hakkında Kanun ile 4483 sayılı Kanun hükümleri çerçevesinde değer­lendirilmeli, bu kanunlara göre işleme alınması mümkün olmayan dilekçeler, gerekçeleri de belirtilmek suretiyle, varsa ve ulaşılabilir ise dilekçe sahibi de bilgilendirilerek ilgili birimce/karar merciince işleme konulmamalıdır </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C9102A17-333A-4750-91B4-0CA29AD76EC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ÖN İNCELEME VE SORUŞTURMA EMİRLERİNDE DİKKATE ALINMASI GEREKLİ HUSUSLAR</a:t>
            </a:r>
            <a:endParaRPr b="1" i="1" lang="en-US" sz="2400" spc="-1" strike="noStrike">
              <a:solidFill>
                <a:srgbClr val="003300"/>
              </a:solidFill>
              <a:latin typeface="Comic Sans MS"/>
            </a:endParaRPr>
          </a:p>
        </p:txBody>
      </p:sp>
      <p:sp>
        <p:nvSpPr>
          <p:cNvPr id="2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Ön inceleme ve disiplin soruşturması emirlerinde, şikayetçi ve şikayet konu­su olan personelin açık kimlikleri yanında, görev yeri ve unvanları ile ikamet adres­leri, ileri sürülen kusur veya suçun işlendiği yer ve tarih, iddia konuları ile varsa ta­nık, delil, belge ve karinelerin maddeler halinde belirtilmesi yanında onayların, mev­zuatında gösterilen mercilerce imzalanmış olmasına özen gösterilmelidir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8C828D72-494E-46F6-96C5-8F21E280EAD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CININ HAREKET TARZI, HAZIRLIK AŞAMASI VE İZLENECEK YOL</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2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Soruşturmayı yürüten müfettiş, öncelikle onayı vermeye yetkili makam tarafından verilen yazılı emir ve varsa ekli belgeleri inceleyerek çalışmalarını ne şekilde yürüteceği konusunda bir ön hazırlık yapmalı, iddiaların göreviyle ilgili olup olmadığını saptamak suretiyle olaya ve duruma uygun bir plan hazırlamalıdır. Bu planlar yapılırken ilk bilgilerin neler olduğu, işleme kimden, hangi konudan başlanılması ve inceleme/soruşturmanın ne zaman, nerede veya nerelerde yapılması gerektiği, uzman görüşüne ihtiyaç duyulup duyulmayacağı, olayla ilgili gerekli kaynak, belge ve kayıtların neler olabileceği, bunların inceleme, görülme ve tespit edilme önceliği, hangi safhalarda ve kimlere yazılı soru veya ifade zaptı yapılacağı gibi hususlar göz önünde bulundurulmalıdır. </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1F26EB5D-52FD-4B14-9DC2-B228426DBE7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CININ HAREKET TARZI, HAZIRLIK AŞAMASI VE İZLENECEK YOL</a:t>
            </a:r>
            <a:endParaRPr b="1" i="1" lang="en-US" sz="2400" spc="-1" strike="noStrike">
              <a:solidFill>
                <a:srgbClr val="003300"/>
              </a:solidFill>
              <a:latin typeface="Comic Sans MS"/>
            </a:endParaRPr>
          </a:p>
        </p:txBody>
      </p:sp>
      <p:sp>
        <p:nvSpPr>
          <p:cNvPr id="2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İnceleme-soruşturma ve ön inceleme çalışmaları sırasında, sırasıyla şikayetçi, muhbir, tanık ve şüphelilerin/sanıkların ifadeleri tek tek alınmalıdır. İfadeleri alınmak için kişilere verilen randevuların çakışmamasına özen gösterilmelidir. İfade alım ortamının sakinliği, güvenliği ve dışarıdan dinlenilebilir olmaması mümkün olabildiği ölçüde sağlanmalıdır. Bu kişilerin birbirleri ile yüzleştirilmeleri, belli bir konu karşısında kasıtlı olarak ortak tavır almaları ya da aynı ifadeyi vermeleri gibi durumların ön­lenmesine çalışılmalıdı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73CB1143-C3A6-4746-AB4E-E575A50CE16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Planlamanın gereği ve yararı</a:t>
            </a:r>
            <a:endParaRPr b="1" i="1" lang="en-US" sz="3600" spc="-1" strike="noStrike">
              <a:solidFill>
                <a:srgbClr val="003300"/>
              </a:solidFill>
              <a:latin typeface="Comic Sans MS"/>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En iyi teftiş planlı olarak yapılandır.</a:t>
            </a:r>
            <a:endParaRPr b="0" lang="en-US" sz="3200" spc="-1" strike="noStrike">
              <a:solidFill>
                <a:srgbClr val="0033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  </a:t>
            </a:r>
            <a:r>
              <a:rPr b="0" lang="en-US" sz="3200" spc="-1" strike="noStrike">
                <a:solidFill>
                  <a:srgbClr val="003300"/>
                </a:solidFill>
                <a:latin typeface="Comic Sans MS"/>
              </a:rPr>
              <a:t>Teftiş planı, sorunları, çözüm yollarını, kimlerle nasıl çalışılacağını, izlenecek politikayı, uygulanacak yöntemleri içerir.Teftiş planı ilgililerin katılması ile veya görüşleri alınarak hazırlanır.</a:t>
            </a: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C8150562-D3DD-48E3-9056-CA292ED73F7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CININ HAREKET TARZI, HAZIRLIK AŞAMASI VE İZLENECEK YOL</a:t>
            </a:r>
            <a:endParaRPr b="1" i="1" lang="en-US" sz="2400" spc="-1" strike="noStrike">
              <a:solidFill>
                <a:srgbClr val="003300"/>
              </a:solidFill>
              <a:latin typeface="Comic Sans MS"/>
            </a:endParaRPr>
          </a:p>
        </p:txBody>
      </p:sp>
      <p:sp>
        <p:nvSpPr>
          <p:cNvPr id="2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 </a:t>
            </a:r>
            <a:r>
              <a:rPr b="0" lang="en-US" sz="2000" spc="-1" strike="noStrike">
                <a:solidFill>
                  <a:srgbClr val="003300"/>
                </a:solidFill>
                <a:latin typeface="Comic Sans MS"/>
              </a:rPr>
              <a:t>İnceleme/soruşturmaya varsa muhbir veya şikayetçiden, yoksa tanıklardan </a:t>
            </a:r>
            <a:r>
              <a:rPr b="1" lang="en-US" sz="2000" spc="-1" strike="noStrike">
                <a:solidFill>
                  <a:srgbClr val="003300"/>
                </a:solidFill>
                <a:latin typeface="Comic Sans MS"/>
              </a:rPr>
              <a:t> </a:t>
            </a:r>
            <a:r>
              <a:rPr b="0" lang="en-US" sz="2000" spc="-1" strike="noStrike">
                <a:solidFill>
                  <a:srgbClr val="003300"/>
                </a:solidFill>
                <a:latin typeface="Comic Sans MS"/>
              </a:rPr>
              <a:t>başlayarak, şüpheli/sanık ifadelerinin sona bırakılması usulden olup sanık ifadelerinin yeni tanık ifadelerini gerektirmesi durumunda, konuyu aydınlatıcı nitelikteki bu tür ifadelerin alınmasından sonra gerektiğinde yeniden sanık ifadesine başvurulmalıdır. İşlem konularının büyüklük ve küçüklüğü, zaman, kişi faktörleri, adli yönünün bulunup bulunmadığı göz önünde bulundurularak, ifadeler, yerine göre yazılı veya ifade zaptı şeklinde alınmalıdır. Her iki halde de ifadelerine başvurulan kişilere karşı olumlu davranmak, yorgun, tutarsız, sinirli ve özellikle yanlı izlenimi uyandırabilecek davranışlardan kaçınmak gerekli ve zorunludu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AED24DC1-15CE-4820-A20B-EC92D5CEDA1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CININ HAREKET TARZI, HAZIRLIK AŞAMASI VE İZLENECEK YOL</a:t>
            </a:r>
            <a:endParaRPr b="1" i="1" lang="en-US" sz="2400" spc="-1" strike="noStrike">
              <a:solidFill>
                <a:srgbClr val="003300"/>
              </a:solidFill>
              <a:latin typeface="Comic Sans MS"/>
            </a:endParaRPr>
          </a:p>
        </p:txBody>
      </p:sp>
      <p:sp>
        <p:nvSpPr>
          <p:cNvPr id="2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İlgililere yöneltilen sözlü veya yazılı sorular, açık ve anlaşılır olmalı, farklı yorumlanmamalıdır. Özellikle ifade zaptı yapılırken, müfettişçe bilinen soruşturmanın aldığı durumla ilgili olmasa bile, ifade verenin titizlik gösterdiği görüşlerine veya cümlelerine aynen yer verilmelidir. Tersine bir davranışın, ifade verenlerin inceleme/soruşturmanın objektifliği, görevlilerin yansızlığı konusundaki inanç ve güvenini sarsabileceği unutulmamalıdı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7DE1F375-9806-4D73-B985-E7FDE064326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CININ HAREKET TARZI, HAZIRLIK AŞAMASI VE İZLENECEK YOL</a:t>
            </a:r>
            <a:endParaRPr b="1" i="1" lang="en-US" sz="2400" spc="-1" strike="noStrike">
              <a:solidFill>
                <a:srgbClr val="003300"/>
              </a:solidFill>
              <a:latin typeface="Comic Sans MS"/>
            </a:endParaRPr>
          </a:p>
        </p:txBody>
      </p:sp>
      <p:sp>
        <p:nvSpPr>
          <p:cNvPr id="2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İşlemler sırasında ilgili evrak, konunun ve belgenin önemine göre ya bizzat görülerek raporda gerekli bilgi verilmeli ya da bu belgelerin birer sureti veya asılları alınarak rapora eklenmek suretiyle değerlendirilmelidir. İddia konuları tanık ve şüpheli/sanık ifadeleri ile açıklığa kavuşmuş olsa bile  rapor ekinde belgelere mutlaka yer verilip değerlendirilmelidir.</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Düzenlenen raporlar, açık ve akıcı bir anlatımla anlaşılır şekilde olmalı, yorum ve hükümler ilgili belge ve bilgilere dayandırılmalı ve mantıklı olmalıdır. </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5E4CAF82-A796-4F4F-845A-0A2B1F30EB3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CININ HAREKET TARZI, HAZIRLIK AŞAMASI VE İZLENECEK YOL</a:t>
            </a:r>
            <a:endParaRPr b="1" i="1" lang="en-US" sz="2400" spc="-1" strike="noStrike">
              <a:solidFill>
                <a:srgbClr val="003300"/>
              </a:solidFill>
              <a:latin typeface="Comic Sans MS"/>
            </a:endParaRPr>
          </a:p>
        </p:txBody>
      </p:sp>
      <p:sp>
        <p:nvSpPr>
          <p:cNvPr id="2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İnceleme/soruşturmalar sırasında, muhatap olunan elemanların görülen hatalarını düzeltmeleri yolunda tavsiye, telkin, açıklama ve ikazlarda bulunulmamalı, meslek açısından uygunsuz hareketlerin düzeltilmesi amacıyla da olsa tartışmaya girilmemeli, bu tür davranışların şikayetçi ve sanıklara itiraz hakkı verebileceği unutulmamalıdı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9077F348-F78F-4E14-983F-66B82EE48FB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CININ HAREKET TARZI, HAZIRLIK AŞAMASI VE İZLENECEK YOL</a:t>
            </a:r>
            <a:endParaRPr b="1" i="1" lang="en-US" sz="2400" spc="-1" strike="noStrike">
              <a:solidFill>
                <a:srgbClr val="003300"/>
              </a:solidFill>
              <a:latin typeface="Comic Sans MS"/>
            </a:endParaRPr>
          </a:p>
        </p:txBody>
      </p:sp>
      <p:sp>
        <p:nvSpPr>
          <p:cNvPr id="2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Bazı öğretmen ve idareciler, kendilerini haklı gösterebilmek için öğrencileri tanık göstermekte, bu durum bazen olayların mahiyetine göre okulda öğrencilerin gruplara ayrılmasına, okulun havasının büsbütün bozulmasına sebebiyet vermektedir. Bu durum dikkate alınarak zorunluluk olmadıkça, özellikle idari soruşturmalarda, öğretmen ve idareciler hakkında öğrencilerden bilgi toplanması cihetine gidilmemesi yerinde olacaktır. Bununla birlikte, tanık sıfatıyla ifadeleri alınacak öğrenci ve öğretmenler belirlenirken yanlı hareket edildiği izlenimini verebilecek seçimlerden kaçınılmalıdır. Hasta ve raporlu durumda bulunan bir tanığın ifadesinin alınmasından önce, o sırada ifade verebilecek durumda olduğunun doktor raporu ile belirlenmesi, görevlileri muhtemel bir takım olumsuzluklardan kurtaracaktı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34674852-84A5-416E-812F-5DEBFAD9A94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CININ HAREKET TARZI, HAZIRLIK AŞAMASI VE İZLENECEK YOL</a:t>
            </a:r>
            <a:endParaRPr b="1" i="1" lang="en-US" sz="2400" spc="-1" strike="noStrike">
              <a:solidFill>
                <a:srgbClr val="003300"/>
              </a:solidFill>
              <a:latin typeface="Comic Sans MS"/>
            </a:endParaRPr>
          </a:p>
        </p:txBody>
      </p:sp>
      <p:sp>
        <p:nvSpPr>
          <p:cNvPr id="2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Ayrıca, sanığı itirafa zorlamak amacıyla yanlış olaylar söylemekten, bazı tanıkların o yolda bilgi verdiklerini ifade ederek yanlış beyan ve telkinde bulunmaktan kesinlikle kaçınmalı, sanığın aleyhindekiler kadar lehindeki kanıtların da toplanmasına önem verilmelidir.</a:t>
            </a: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BDF61FD5-11D0-4BAF-98F5-DCDFE73EF65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CININ HAREKET TARZI, HAZIRLIK AŞAMASI VE İZLENECEK YOL</a:t>
            </a:r>
            <a:endParaRPr b="1" i="1" lang="en-US" sz="2400" spc="-1" strike="noStrike">
              <a:solidFill>
                <a:srgbClr val="003300"/>
              </a:solidFill>
              <a:latin typeface="Comic Sans MS"/>
            </a:endParaRPr>
          </a:p>
        </p:txBody>
      </p:sp>
      <p:sp>
        <p:nvSpPr>
          <p:cNvPr id="2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İnceleme ve soruşturmalarda tanık ifadeleri ile şüpheli/sanık beyanlarının birbirini tutması, hatta sanıkların fiilleri aynen kabullenmeleri (ikrar) durumunda bile, delil niteliğinde bulunan ve ifadeleri teyit özelliği taşıyan belgelerin asıl veya örnekleri alınarak dosya noksansız hale getirilmelidir. Soruşturmacılar, asıllarını aldıkları belgelerin bir örneğini tasdik ederek dosyasında saklanmak üzere ilgili daireye vermelidirle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007725E8-6356-4123-A032-C1E8A5BB2EE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CININ HAREKET TARZI, HAZIRLIK AŞAMASI VE İZLENECEK YOL</a:t>
            </a:r>
            <a:endParaRPr b="1" i="1" lang="en-US" sz="2400" spc="-1" strike="noStrike">
              <a:solidFill>
                <a:srgbClr val="003300"/>
              </a:solidFill>
              <a:latin typeface="Comic Sans MS"/>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Zanlıya acıyarak ya da işin kolay yapılmasını sağlamak amacıyla sanığın suçsuzluğunu gösteren veya suçunu hafifletici nitelikte bulunan belgelerin neler olduğunu söyleyerek, bunları ifadesine eklemesi şeklindeki bir tavsiye son derece hatalı ve soruşturmacı kimliği ile bağdaşmayan bir davranış niteliğindedir. Objektifliği ihlal eden bu tür tutumlardan kaçınılmalı, şayet böyle belgeler varsa inceleme-soruşturmacı tarafından temin edilip dosyasına konulmalı, toplanan her belge mutlaka değerlendirilmelidi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644A7300-86BD-4A8A-B3E9-3CACB43D6E3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00"/>
                </a:solidFill>
                <a:latin typeface="Comic Sans MS"/>
              </a:rPr>
              <a:t> </a:t>
            </a:r>
            <a:r>
              <a:rPr b="1" i="1" lang="en-US" sz="3200" spc="-1" strike="noStrike">
                <a:solidFill>
                  <a:srgbClr val="003300"/>
                </a:solidFill>
                <a:latin typeface="Comic Sans MS"/>
              </a:rPr>
              <a:t>NAİPLİK VE İSTİNABE</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2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İfadelerin bizzat soruşturmayı yürüten kişilerce alınması daha uygun olmakla birlikte bazı zorunlu hallerde, soruşturma mahalli dışında bulunan tanık, sanık hatta bilirkişilerin ifadelerinin yasalara uygun olarak o yerdeki bir yetkiliye aldırılması mümkündür. Bu işleme </a:t>
            </a:r>
            <a:r>
              <a:rPr b="0" i="1" lang="en-US" sz="2400" spc="-1" strike="noStrike">
                <a:solidFill>
                  <a:srgbClr val="003300"/>
                </a:solidFill>
                <a:latin typeface="Comic Sans MS"/>
              </a:rPr>
              <a:t>‘</a:t>
            </a:r>
            <a:r>
              <a:rPr b="1" i="1" lang="en-US" sz="2400" spc="-1" strike="noStrike">
                <a:solidFill>
                  <a:srgbClr val="003300"/>
                </a:solidFill>
                <a:latin typeface="Comic Sans MS"/>
              </a:rPr>
              <a:t>istinabe</a:t>
            </a:r>
            <a:r>
              <a:rPr b="0" i="1" lang="en-US" sz="2400" spc="-1" strike="noStrike">
                <a:solidFill>
                  <a:srgbClr val="003300"/>
                </a:solidFill>
                <a:latin typeface="Comic Sans MS"/>
              </a:rPr>
              <a:t>’, </a:t>
            </a:r>
            <a:r>
              <a:rPr b="0" lang="en-US" sz="2400" spc="-1" strike="noStrike">
                <a:solidFill>
                  <a:srgbClr val="003300"/>
                </a:solidFill>
                <a:latin typeface="Comic Sans MS"/>
              </a:rPr>
              <a:t>görevlendirilen kişiye de </a:t>
            </a:r>
            <a:r>
              <a:rPr b="1" i="1" lang="en-US" sz="2400" spc="-1" strike="noStrike">
                <a:solidFill>
                  <a:srgbClr val="003300"/>
                </a:solidFill>
                <a:latin typeface="Comic Sans MS"/>
              </a:rPr>
              <a:t>“naip” </a:t>
            </a:r>
            <a:r>
              <a:rPr b="0" lang="en-US" sz="2400" spc="-1" strike="noStrike">
                <a:solidFill>
                  <a:srgbClr val="003300"/>
                </a:solidFill>
                <a:latin typeface="Comic Sans MS"/>
              </a:rPr>
              <a:t>adı verilir.</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İfade alınmak üzere yetki verilen kişiye, ifadesi alınacak kişiden istenecek bilgi ve sorulacak sorularla ilgili olarak yazılan açıklama yazısına da </a:t>
            </a:r>
            <a:r>
              <a:rPr b="1" i="1" lang="en-US" sz="2400" spc="-1" strike="noStrike">
                <a:solidFill>
                  <a:srgbClr val="003300"/>
                </a:solidFill>
                <a:latin typeface="Comic Sans MS"/>
              </a:rPr>
              <a:t>“istinabe talima­tı”</a:t>
            </a:r>
            <a:r>
              <a:rPr b="0" i="1" lang="en-US" sz="2400" spc="-1" strike="noStrike">
                <a:solidFill>
                  <a:srgbClr val="003300"/>
                </a:solidFill>
                <a:latin typeface="Comic Sans MS"/>
              </a:rPr>
              <a:t> </a:t>
            </a:r>
            <a:r>
              <a:rPr b="0" lang="en-US" sz="2400" spc="-1" strike="noStrike">
                <a:solidFill>
                  <a:srgbClr val="003300"/>
                </a:solidFill>
                <a:latin typeface="Comic Sans MS"/>
              </a:rPr>
              <a:t>denilmektedi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C38BDB28-9C04-49EF-B21E-FFA8639BDD5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NAİPLİK VE İSTİNABE</a:t>
            </a:r>
            <a:endParaRPr b="1" i="1" lang="en-US" sz="3200" spc="-1" strike="noStrike">
              <a:solidFill>
                <a:srgbClr val="003300"/>
              </a:solidFill>
              <a:latin typeface="Comic Sans MS"/>
            </a:endParaRPr>
          </a:p>
        </p:txBody>
      </p:sp>
      <p:sp>
        <p:nvSpPr>
          <p:cNvPr id="2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00"/>
                </a:solidFill>
                <a:latin typeface="Comic Sans MS"/>
              </a:rPr>
              <a:t>İfadesi alınmak istenilen tanık veya sanığın bulunduğu yerde, ifadesi alınacak kişilerin ve naib olarak belirlenecek görevlilerin konumları da göz önünde bulundurularak, varsa bakanlık müfettişine, valilere, millî eğitim müdürlerine, ilçelerde kaymakamlara, ilçe millî eğitim müdürlerine vb. ifade al­ma yetkisi verilebilir. Bu talimatta, yapılacak işlemler açık ve anlaşılır bir şekilde ya­zılmalı, şayet tanığa yemin ettirilmesi gerekiyorsa bu husus da belirtilmelidir. işlem tesisi bağlamında öngörülen azami 45 günlük süre de dikkate alınarak, gecikmeye meydan verilemesi bakımından zaman zaman istinabe yoluna gidilmesi kaçınıl­maz görülmektedi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ACE55F74-028F-4560-BA41-8E9A6CA738E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eftiş Planlanırken Gözönünde Bulundurulacak Hususlar</a:t>
            </a:r>
            <a:endParaRPr b="1" i="1" lang="en-US" sz="3200" spc="-1" strike="noStrike">
              <a:solidFill>
                <a:srgbClr val="003300"/>
              </a:solidFill>
              <a:latin typeface="Comic Sans MS"/>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Kurumun genel ve özel amaçları ile politikası</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Teftişin genel ve özel amaçları ve fonksiyonu</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Örgüt yapısı, kademeler ve görevlerin dağılımı,</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Sosyal, siyasal, kültürel ve ekonomik gelişimler,</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Değişme ve gelişme sonucu uygulanan yöntemle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76547934-8080-411D-B6A1-D52A47138B2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NAİPLİK VE İSTİNABE</a:t>
            </a:r>
            <a:endParaRPr b="1" i="1" lang="en-US" sz="3200" spc="-1" strike="noStrike">
              <a:solidFill>
                <a:srgbClr val="003300"/>
              </a:solidFill>
              <a:latin typeface="Comic Sans MS"/>
            </a:endParaRPr>
          </a:p>
        </p:txBody>
      </p:sp>
      <p:sp>
        <p:nvSpPr>
          <p:cNvPr id="2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3300"/>
                </a:solidFill>
                <a:latin typeface="Comic Sans MS"/>
              </a:rPr>
              <a:t>Naibin, istinabe talimatında öngörülen hususlara aynen uyması, yöneltilmesi istenilen sorularda ekleme çıkarma yapmaması, ifadeyi bizzat alarak ifadesini aldığı kişi ile birlikte imzalaması, ayrıca ifadenin altına; </a:t>
            </a:r>
            <a:r>
              <a:rPr b="1" lang="tr-TR" sz="2800" spc="-1" strike="noStrike">
                <a:solidFill>
                  <a:srgbClr val="003300"/>
                </a:solidFill>
                <a:latin typeface="Comic Sans MS"/>
              </a:rPr>
              <a:t>“Bu ifade, </a:t>
            </a:r>
            <a:r>
              <a:rPr b="1" i="1" lang="tr-TR" sz="2800" spc="-1" strike="noStrike">
                <a:solidFill>
                  <a:srgbClr val="003300"/>
                </a:solidFill>
                <a:latin typeface="Comic Sans MS"/>
              </a:rPr>
              <a:t>….. …...’ın istinabe talimatına uygun olarak alınmıştır.”</a:t>
            </a:r>
            <a:r>
              <a:rPr b="0" i="1" lang="tr-TR" sz="2800" spc="-1" strike="noStrike">
                <a:solidFill>
                  <a:srgbClr val="003300"/>
                </a:solidFill>
                <a:latin typeface="Comic Sans MS"/>
              </a:rPr>
              <a:t> </a:t>
            </a:r>
            <a:r>
              <a:rPr b="0" lang="tr-TR" sz="2800" spc="-1" strike="noStrike">
                <a:solidFill>
                  <a:srgbClr val="003300"/>
                </a:solidFill>
                <a:latin typeface="Comic Sans MS"/>
              </a:rPr>
              <a:t>ibaresini eklemesi gerekmektedir.</a:t>
            </a:r>
            <a:endParaRPr b="0" lang="en-US" sz="2800" spc="-1" strike="noStrike">
              <a:solidFill>
                <a:srgbClr val="0033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84602CBA-2C8E-48E5-BC78-013BAE7CCAA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BİLİRKİŞİ TAYİNİ VE UYULACAK ESASLAR</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2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3300"/>
                </a:solidFill>
                <a:latin typeface="Comic Sans MS"/>
              </a:rPr>
              <a:t>CMK’nın</a:t>
            </a:r>
            <a:r>
              <a:rPr b="1" lang="tr-TR" sz="2800" spc="-1" strike="noStrike">
                <a:solidFill>
                  <a:srgbClr val="003300"/>
                </a:solidFill>
                <a:latin typeface="Comic Sans MS"/>
              </a:rPr>
              <a:t> </a:t>
            </a:r>
            <a:r>
              <a:rPr b="0" lang="tr-TR" sz="2800" spc="-1" strike="noStrike">
                <a:solidFill>
                  <a:srgbClr val="003300"/>
                </a:solidFill>
                <a:latin typeface="Comic Sans MS"/>
              </a:rPr>
              <a:t>63. maddesi hükmüne göre, </a:t>
            </a:r>
            <a:r>
              <a:rPr b="1" i="1" lang="tr-TR" sz="2800" spc="-1" strike="noStrike">
                <a:solidFill>
                  <a:srgbClr val="003300"/>
                </a:solidFill>
                <a:latin typeface="Comic Sans MS"/>
              </a:rPr>
              <a:t>“çözümü uzmanlığı, özel veya teknik bilgiyi gerektiren hallerde”</a:t>
            </a:r>
            <a:r>
              <a:rPr b="0" lang="tr-TR" sz="2800" spc="-1" strike="noStrike">
                <a:solidFill>
                  <a:srgbClr val="003300"/>
                </a:solidFill>
                <a:latin typeface="Comic Sans MS"/>
              </a:rPr>
              <a:t>, oy ve görüşleri alınmak üzere bilirkişi görevlendirilebilir.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3300"/>
                </a:solidFill>
                <a:latin typeface="Comic Sans MS"/>
              </a:rPr>
              <a:t>Soruşturmacı bilirkişi tayin ederken, konu ile ilgili yeterli bilgi ve deneyime sahip olanlar arasından ve kurum dışından görevlendirme yapmak hu­susunda gerekli özen ve titizliği göstermelidir.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A6A56B30-E14C-4ED3-AF2F-0AD780C11E0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İHBARLAR KARŞISINDA MÜFETTİŞİN YAPACAĞI  İŞLEMLER</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2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 </a:t>
            </a:r>
            <a:r>
              <a:rPr b="0" lang="en-US" sz="2000" spc="-1" strike="noStrike">
                <a:solidFill>
                  <a:srgbClr val="003300"/>
                </a:solidFill>
                <a:latin typeface="Comic Sans MS"/>
              </a:rPr>
              <a:t>Bulundukları mahalde kendilerine bir ihbar veya şikayet intikal etmesi ve bunun 4483 sayılı Kanun kapsamında bulunması durumunda müfettişlerin, bu Kanu­nun 4. maddesinin ikinci fıkrasında yer alan, </a:t>
            </a:r>
            <a:r>
              <a:rPr b="1" i="1" lang="en-US" sz="2000" spc="-1" strike="noStrike">
                <a:solidFill>
                  <a:srgbClr val="003300"/>
                </a:solidFill>
                <a:latin typeface="Comic Sans MS"/>
              </a:rPr>
              <a:t>“Diğer makam ve memurlarla kamu görevlileri de Kanun kapsamında bir suç işlendiğini ihbar, şikayet, bilgi belge ve bulgulara dayanarak öğrendiklerinde durumu izin vermeye yetkili mercie iletir­ler” </a:t>
            </a:r>
            <a:r>
              <a:rPr b="0" lang="en-US" sz="2000" spc="-1" strike="noStrike">
                <a:solidFill>
                  <a:srgbClr val="003300"/>
                </a:solidFill>
                <a:latin typeface="Comic Sans MS"/>
              </a:rPr>
              <a:t>hükmü gereğince bir yazı ekinde durumu ilgili mercie iletmeleri ve bu konu­ların disiplin yönünden de işleme alınıp sonuçlandırılması bakımından da, Teftiş Kurulu Başkanlığına intikal ettirerek alacakları emre göre hareket etmeleri gerek­mektedir. </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D561584F-F188-4884-AE03-13B4BFABC67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6094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UTUKLU, SAĞIR, DİLSİZ VE YABANCILARIN İFADELERİ­NİN ALINMASI</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249"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00"/>
                </a:solidFill>
                <a:latin typeface="Comic Sans MS"/>
              </a:rPr>
              <a:t>Tutuklu bulunan bir kişinin ifadesi, ilgili Cumhuriyet Başsavcılığına bir yazı ile durumun bildirilmesi ve savcılığın yazıya ekleyeceği derkenar veya cezaevi mü­dürlüğüne hitaben yazacağı bir yazının sağlanmasından sonra ceza evine gidilerek alınmalıdır. Yabancıların, meramını anlatabilecek ölçüde Türkçe bilmeyenlerin,  sağır ve dilsizlerin, engellilerin ifadeleri CMK’nın 56 ve 202. maddelerinde yer alan hükümler göz önünde bulundurularak alınır. İfade tutanağı ifadeyi alan, tercüman ve  ifadesi alınan tarafından birlikte imzalanmalıdır. </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07DB63F3-8595-4F1F-A09E-4D7BD45EB9C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MÜLKİ AMİR VE BENZERİ KİŞİLERİN İFADELERİNİN ALINMASI</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2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00"/>
                </a:solidFill>
                <a:latin typeface="Comic Sans MS"/>
              </a:rPr>
              <a:t> </a:t>
            </a:r>
            <a:r>
              <a:rPr b="0" lang="tr-TR" sz="2400" spc="-1" strike="noStrike">
                <a:solidFill>
                  <a:srgbClr val="003300"/>
                </a:solidFill>
                <a:latin typeface="Comic Sans MS"/>
              </a:rPr>
              <a:t>Soruşturmanın akışı içerisinde ve soruşturmacı tarafından gerekli görülmesi halinde mülki amirlerin ve askeri kişilerin ifadelerine başvurulması da doğaldır. CMK’nın 43-49.</a:t>
            </a:r>
            <a:r>
              <a:rPr b="1" i="1" lang="tr-TR" sz="2400" spc="-1" strike="noStrike">
                <a:solidFill>
                  <a:srgbClr val="003300"/>
                </a:solidFill>
                <a:latin typeface="Comic Sans MS"/>
              </a:rPr>
              <a:t> </a:t>
            </a:r>
            <a:r>
              <a:rPr b="0" lang="tr-TR" sz="2400" spc="-1" strike="noStrike">
                <a:solidFill>
                  <a:srgbClr val="003300"/>
                </a:solidFill>
                <a:latin typeface="Comic Sans MS"/>
              </a:rPr>
              <a:t>maddelerinde, herkes gibi vali veya kaymakamların da tanık sı­fatıyla ifadelerine başvurulabileceğine dair hükümler mevcut ise de mülkî amirlerin açıkça veya dolaylı olarak yazılı bilgi vermeme isteğini belirtmeleri halinde, sözlü olarak alınacak bilgilerle yetinilmeli, asker kişilerin ifadeleri bağlı bulunduğu komu­tanın bilgisi ve izni dahilinde alınmalıdı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6493FFEE-D606-4AA2-99ED-C529DDA0926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00"/>
                </a:solidFill>
                <a:latin typeface="Comic Sans MS"/>
              </a:rPr>
              <a:t> </a:t>
            </a:r>
            <a:r>
              <a:rPr b="1" i="1" lang="en-US" sz="2800" spc="-1" strike="noStrike">
                <a:solidFill>
                  <a:srgbClr val="003300"/>
                </a:solidFill>
                <a:latin typeface="Comic Sans MS"/>
              </a:rPr>
              <a:t>SORUŞTURMACININ / ÖN İNCELEMECİNİN REDDİ VEYA ÇEKİLMESİ</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2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00"/>
                </a:solidFill>
                <a:latin typeface="Comic Sans MS"/>
              </a:rPr>
              <a:t> </a:t>
            </a:r>
            <a:r>
              <a:rPr b="0" lang="tr-TR" sz="2000" spc="-1" strike="noStrike">
                <a:solidFill>
                  <a:srgbClr val="003300"/>
                </a:solidFill>
                <a:latin typeface="Comic Sans MS"/>
              </a:rPr>
              <a:t>Bir soruşturmacının, görevlendirildiği bir soruşturmadan, ön incelemeden çekilmesi veya reddi konusunda yasal bir düzenleme bulunmamaktadı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00"/>
                </a:solidFill>
                <a:latin typeface="Comic Sans MS"/>
              </a:rPr>
              <a:t>Bununla birlikte, şikayetçi ya da sanık konumundaki kişilerin çeşitli nedenlerle soruşturmacı­ya karşı güvensizliklerini belli ederek soruşturmacıyı reddetmeleri gündeme gelebilir. Böyle bir durumda soruşturmacı kendisine yönelik reddetme durumunu, CMK’nın ‘Hakimin Davaya Bakamaması ve Reddi’ bölümünde yer alan 22-31. maddelerindeki hükümleri göz önünde bulundurarak değerlendirir; reddetmeye ilişkin ifade tutanağı veya dilekçeyi görüşleri ile birlikte soruşturma emrini veren makama iletir. Makamdan alınacak emre göre hareket edilir </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5BF07B84-1619-495F-9E4C-A2106678029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SAVUNMA HAKKI</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2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Anayasanın 129. ve 657 sayılı Devlet Memurları Kanununun 130. maddele­rinde, bir kimseye isnat edilen bir suç hakkında savunma alınmaksızın karar verile­meyeceği hükme bağlanmıştır. Bu husus, hukukun önemli genel prensipleri arasın­da sayılmaktadı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657 sayılı Devlet Memurları Kanununun 130. maddesi aynen, </a:t>
            </a:r>
            <a:r>
              <a:rPr b="1" i="1" lang="en-US" sz="2000" spc="-1" strike="noStrike">
                <a:solidFill>
                  <a:srgbClr val="003300"/>
                </a:solidFill>
                <a:latin typeface="Comic Sans MS"/>
              </a:rPr>
              <a:t>“Devlet memu­ru hakkında savunması alınmadan disiplin cezası verilemez. Soruşturmayı yapa­nın veya yetkili disiplin kurulunun yedi günden az olmamak üzere verdiği süre içinde veya belirtilen bir tarihte savunmasını yapmayan memur, savunma hakkın­dan vazgeçmiş sayılır.”</a:t>
            </a:r>
            <a:r>
              <a:rPr b="0" lang="en-US" sz="2000" spc="-1" strike="noStrike">
                <a:solidFill>
                  <a:srgbClr val="003300"/>
                </a:solidFill>
                <a:latin typeface="Comic Sans MS"/>
              </a:rPr>
              <a:t> </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DF652129-28C2-4F4D-8F85-37D6D47E963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EVSİ-İ TAHKİKAT</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2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Tevsi-i tahkikat; inceleme ve soruşturması yapılan ve usulünce rapora bağlanan konular/iddialar çerçevesinde, gerek kamu hakları yönünden gerek haklarında işlem yapılan kişiler/görevliler yönünden, raporda ulaşılan sonucu, belirtilen görüş ve kanaati, getirilen teklifleri niteliksel ve/veya niceliksel açıdan etkileyecek yeni olguların (yeni delil veya emarelerin, yeni verilerin) ortaya çıkması durumunda, yapılmış olan fakat raporu henüz uygulamaya konulmamış olan tahkikatın yeni verileri de dikkate alacak şekilde  genişletilmesi, derinleştirilmesidir. </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8373BE98-6C6B-4EC6-9D22-AD205B70FED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DİSİPLİN SORUŞTURMASI VE DAYANDIĞI KANUNLAR</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2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657 sayılı Devlet Memurları Kanunu, 1702 sayılı İlk ve Orta Tedrisat Muallimlerinin Terfi ve Tecziyeleri Hakkında Kanun, 4357 sayılı İlkokul Öğretmenlerinin Kadrolarına, Terfi, Taltif ve Cezalandırılmalarına Dair Kanunda sayılan fiil ve hallerin yanı sıra;</a:t>
            </a:r>
            <a:endParaRPr b="0" lang="en-US" sz="1800" spc="-1" strike="noStrike">
              <a:solidFill>
                <a:srgbClr val="003300"/>
              </a:solidFill>
              <a:latin typeface="Comic Sans MS"/>
            </a:endParaRPr>
          </a:p>
          <a:p>
            <a:pPr marL="343080" indent="-3430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3628, 5816, 4926, 1402, 3713, 2935 sayılı Kanunlar kapsamında bulunan;</a:t>
            </a:r>
            <a:endParaRPr b="0" lang="en-US" sz="1800" spc="-1" strike="noStrike">
              <a:solidFill>
                <a:srgbClr val="003300"/>
              </a:solidFill>
              <a:latin typeface="Comic Sans MS"/>
            </a:endParaRPr>
          </a:p>
          <a:p>
            <a:pPr marL="343080" indent="-3430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Görevle ilgili olmayıp görev mahallinde veya dışında vatandaş olarak işle­nen;</a:t>
            </a:r>
            <a:endParaRPr b="0" lang="en-US" sz="1800" spc="-1" strike="noStrike">
              <a:solidFill>
                <a:srgbClr val="003300"/>
              </a:solidFill>
              <a:latin typeface="Comic Sans MS"/>
            </a:endParaRPr>
          </a:p>
          <a:p>
            <a:pPr marL="343080" indent="-3430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4483 sayılı Kanun kapsamın­da bulunan;</a:t>
            </a:r>
            <a:endParaRPr b="0" lang="en-US" sz="1800" spc="-1" strike="noStrike">
              <a:solidFill>
                <a:srgbClr val="003300"/>
              </a:solidFill>
              <a:latin typeface="Comic Sans MS"/>
            </a:endParaRPr>
          </a:p>
          <a:p>
            <a:pPr marL="343080" indent="-3430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Takibi</a:t>
            </a:r>
            <a:r>
              <a:rPr b="1" lang="en-US" sz="1800" spc="-1" strike="noStrike">
                <a:solidFill>
                  <a:srgbClr val="003300"/>
                </a:solidFill>
                <a:latin typeface="Comic Sans MS"/>
              </a:rPr>
              <a:t> </a:t>
            </a:r>
            <a:r>
              <a:rPr b="0" lang="en-US" sz="1800" spc="-1" strike="noStrike">
                <a:solidFill>
                  <a:srgbClr val="003300"/>
                </a:solidFill>
                <a:latin typeface="Comic Sans MS"/>
              </a:rPr>
              <a:t>şikayet ve izne bağlı olan; Fiil ve haller disiplin soruşturması kapsamına girer. </a:t>
            </a:r>
            <a:endParaRPr b="0" lang="en-US" sz="1800" spc="-1" strike="noStrike">
              <a:solidFill>
                <a:srgbClr val="0033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	</a:t>
            </a:r>
            <a:r>
              <a:rPr b="0" lang="en-US" sz="1800" spc="-1" strike="noStrike">
                <a:solidFill>
                  <a:srgbClr val="003300"/>
                </a:solidFill>
                <a:latin typeface="Comic Sans MS"/>
              </a:rPr>
              <a:t>	</a:t>
            </a:r>
            <a:r>
              <a:rPr b="0" lang="en-US" sz="1800" spc="-1" strike="noStrike">
                <a:solidFill>
                  <a:srgbClr val="003300"/>
                </a:solidFill>
                <a:latin typeface="Comic Sans MS"/>
              </a:rPr>
              <a:t>Bu fiil ve hallerin soruşturulması sonucu düzenlenen, idari, disiplin ve mali yönlerden teklifleri içeren rapora “İdari Soruşturma Raporu” veya “Disiplin Soruşturması Ra­poru” ya da kısaca “Soruşturma Raporu” denilir.</a:t>
            </a:r>
            <a:endParaRPr b="0" lang="en-US" sz="1800" spc="-1" strike="noStrike">
              <a:solidFill>
                <a:srgbClr val="003300"/>
              </a:solidFill>
              <a:latin typeface="Comic Sans MS"/>
            </a:endParaRPr>
          </a:p>
        </p:txBody>
      </p:sp>
      <p:sp>
        <p:nvSpPr>
          <p:cNvPr id="4" name="PlaceHolder 3"/>
          <p:cNvSpPr>
            <a:spLocks noGrp="1"/>
          </p:cNvSpPr>
          <p:nvPr>
            <p:ph type="sldNum" idx="2"/>
          </p:nvPr>
        </p:nvSpPr>
        <p:spPr/>
        <p:txBody>
          <a:bodyPr/>
          <a:p>
            <a:fld id="{47A1AD43-7A89-45CD-A42B-A08D10AADDB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SORUŞTURMAYA GEÇİLMESİNİ GEREKTİREN DURUMLAR</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26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Bir memurun/kamu görevlisinin kusurlu bir harekette bulunduğunun şikayet, ihbar ve­ya basın yoluyla ya da denetimler sırasında doğrudan öğrenilmesi durumunda, fail hakkında idari soruşturmaya geçilmesi gerekecektir.</a:t>
            </a: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691A012F-33F2-4406-A335-3795F971FCA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Teftiş Planlanırken Gözönünde Bulundurulacak Hususlar</a:t>
            </a:r>
            <a:endParaRPr b="1" i="1" lang="en-US" sz="3600" spc="-1" strike="noStrike">
              <a:solidFill>
                <a:srgbClr val="003300"/>
              </a:solidFill>
              <a:latin typeface="Comic Sans MS"/>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Ürünün nicelik ve nitelik bakımından durumu,</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Kurumun fiziki olanaklarının kullanılması,</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Kurumun personel kaynakların ve yeterlikleri</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Personelin çalışma koşulları ve sorumlulukları</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Çevrenin yapısı, özellikleri ve beklentileri</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939BC199-529F-4E21-B9B0-16D6726E829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SORUŞTURMAYA GEÇİLMESİNİ GEREKTİREN DURUMLAR</a:t>
            </a:r>
            <a:endParaRPr b="1" i="1" lang="en-US" sz="3600" spc="-1" strike="noStrike">
              <a:solidFill>
                <a:srgbClr val="003300"/>
              </a:solidFill>
              <a:latin typeface="Comic Sans MS"/>
            </a:endParaRPr>
          </a:p>
        </p:txBody>
      </p:sp>
      <p:sp>
        <p:nvSpPr>
          <p:cNvPr id="2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00"/>
                </a:solidFill>
                <a:latin typeface="Comic Sans MS"/>
              </a:rPr>
              <a:t>Disiplin amirleri; 657 sayılı DMK.nun 125. maddesinde sayılan “Uyarma”, “Kınama”, “Aylıktan Kesme”; 1702 sayılı Kanundaki “İhtar”, “Tevbih”, “Ders Ücretlerinin Kesilmesi”, “Maaş Kesilmesi”; 4357 sayılı Kanundaki “Kusurlu Sayılma”, “Ücret Kesilmek”, “Maaş Kesilmek” cezalarının verilme­sini gerektiren memurluk yönünden ve/veya mesleki yönden memnu/yasaklı fiillerin ve/veya hallerin yapıldığını öğrenmeleri halinde, başka bir makamın görüş ve onayına başvurmaksızın, disiplin soruşturması açmak ve konuyla ilgili olarak işlemli bir dosya düzenlemek ve kusurlu davranışla ilgili olarak memurun  savunmasını usulünce almak şartıyla doğrudan bu cezaları verebilirler. </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E264BCEC-547B-4559-B9D2-40BF761648B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SORUŞTURMAYA GEÇİLMESİNİ GEREKTİREN DURUMLAR</a:t>
            </a:r>
            <a:endParaRPr b="1" i="1" lang="en-US" sz="3600" spc="-1" strike="noStrike">
              <a:solidFill>
                <a:srgbClr val="003300"/>
              </a:solidFill>
              <a:latin typeface="Comic Sans MS"/>
            </a:endParaRPr>
          </a:p>
        </p:txBody>
      </p:sp>
      <p:sp>
        <p:nvSpPr>
          <p:cNvPr id="2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Ancak, disiplin amirleri, fiilin, verebilecekleri bu cezalardan daha ağır bir cezayı gerektirdiği kanaatine ulaşmaları durumunda, soruşturma açıp dosya/rapor düzenlemişler ise, kişinin savunmasını almadan dosyayı yetkili disiplin kuruluna usulünce sunarlar; soruşturma açmamış ve rapor düzenlememiş ise, kişi aleyhindeki bilgi ve belgeleri bir dosyada toplayarak, zamanaşımına uğramaması için gereken özeni de göstererek, soruşturma yapılmak üzere konuyu yetkili üst amir ve mercilere bildirmelidirler.</a:t>
            </a:r>
            <a:endParaRPr b="0" lang="en-US" sz="2400" spc="-1" strike="noStrike">
              <a:solidFill>
                <a:srgbClr val="0033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7CC90CAA-6D14-45E7-8301-796EE54305E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SORUŞTURMAYA GEÇİLMESİNİ GEREKTİREN DURUMLAR</a:t>
            </a:r>
            <a:endParaRPr b="1" i="1" lang="en-US" sz="3600" spc="-1" strike="noStrike">
              <a:solidFill>
                <a:srgbClr val="003300"/>
              </a:solidFill>
              <a:latin typeface="Comic Sans MS"/>
            </a:endParaRPr>
          </a:p>
        </p:txBody>
      </p:sp>
      <p:sp>
        <p:nvSpPr>
          <p:cNvPr id="2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Atamaya yetkili amirler de “disiplin amiri” sıfatıyla, doğrudan doğruya öğrendikleri ya da disiplin amirleri tarafından kendilerine intikal ettirilen konuları değerlendirmek suretiyle yu­karıdaki paragrafta sayılan cezaları, usulünce soruşturma dosyası düzenlemek ve ilgilinin savunmasını almak suretiyle verebilirler. Fiil ve hâli daha ağır bir cezayı gerektirir nitelikte bulmaları durumunda, gerektiğinde bir soruşturmacı görevlendirmek suretiyle de soruşturmayı yaptırabilirle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2A903DFD-4A7B-4E87-8622-3609593624F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NIN YÜRÜTÜLMESİ VE İNCELEME / SORUŞTURMA RAPORUNUN DÜZENLENMESİ</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2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Disiplin soruşturmalarında izlenecek yol ve uygulanacak yönteme ilişkin özel bir düzenleme mevcut olmamakla birlikte, soruşturmacılar; kendilerine verilen; </a:t>
            </a:r>
            <a:r>
              <a:rPr b="1" i="1" lang="en-US" sz="3200" spc="-1" strike="noStrike">
                <a:solidFill>
                  <a:srgbClr val="003300"/>
                </a:solidFill>
                <a:latin typeface="Comic Sans MS"/>
              </a:rPr>
              <a:t>disiplin yönünden soruşturulması’</a:t>
            </a:r>
            <a:r>
              <a:rPr b="1" lang="en-US" sz="3200" spc="-1" strike="noStrike">
                <a:solidFill>
                  <a:srgbClr val="003300"/>
                </a:solidFill>
                <a:latin typeface="Comic Sans MS"/>
              </a:rPr>
              <a:t>,</a:t>
            </a:r>
            <a:r>
              <a:rPr b="0" lang="en-US" sz="3200" spc="-1" strike="noStrike">
                <a:solidFill>
                  <a:srgbClr val="003300"/>
                </a:solidFill>
                <a:latin typeface="Comic Sans MS"/>
              </a:rPr>
              <a:t> </a:t>
            </a:r>
            <a:r>
              <a:rPr b="1" i="1" lang="en-US" sz="3200" spc="-1" strike="noStrike">
                <a:solidFill>
                  <a:srgbClr val="003300"/>
                </a:solidFill>
                <a:latin typeface="Comic Sans MS"/>
              </a:rPr>
              <a:t>‘incelenmesi gerektiğinde soruşturulması’ </a:t>
            </a:r>
            <a:r>
              <a:rPr b="0" lang="en-US" sz="3200" spc="-1" strike="noStrike">
                <a:solidFill>
                  <a:srgbClr val="003300"/>
                </a:solidFill>
                <a:latin typeface="Comic Sans MS"/>
              </a:rPr>
              <a:t>şeklindeki emirler üzerine soruşturmaya başlarlar. </a:t>
            </a: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A2CFDE29-E6ED-4CD3-B205-B498FE1CFE0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Comic Sans MS"/>
              </a:rPr>
              <a:t>SORUŞTURMANIN YÜRÜTÜLMESİ</a:t>
            </a:r>
            <a:endParaRPr b="1" i="1" lang="en-US" sz="2800" spc="-1" strike="noStrike">
              <a:solidFill>
                <a:srgbClr val="003300"/>
              </a:solidFill>
              <a:latin typeface="Comic Sans MS"/>
            </a:endParaRPr>
          </a:p>
        </p:txBody>
      </p:sp>
      <p:sp>
        <p:nvSpPr>
          <p:cNvPr id="2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0" lang="en-US" sz="2800" spc="-1" strike="noStrike">
                <a:solidFill>
                  <a:srgbClr val="003300"/>
                </a:solidFill>
                <a:latin typeface="Comic Sans MS"/>
              </a:rPr>
              <a:t>	</a:t>
            </a:r>
            <a:r>
              <a:rPr b="0" lang="en-US" sz="2800" spc="-1" strike="noStrike">
                <a:solidFill>
                  <a:srgbClr val="003300"/>
                </a:solidFill>
                <a:latin typeface="Comic Sans MS"/>
              </a:rPr>
              <a:t>Soruşturma yapmakla görevlendirilen müfettiş ya da muhakkik;</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Evrak İncelenmesi,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Delil Toplanması ve Değerlendirilmesi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İfadelerin Alınması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Sonuç Çıkarma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Belgelerin Tasnifi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Soruşturma Raporunun Yazılması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86601189-AF2B-46E0-AFE4-0AFA2B364E4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Comic Sans MS"/>
              </a:rPr>
              <a:t>SORUŞTURMANIN YÜRÜTÜLMESİ</a:t>
            </a:r>
            <a:endParaRPr b="1" i="1" lang="en-US" sz="2800" spc="-1" strike="noStrike">
              <a:solidFill>
                <a:srgbClr val="003300"/>
              </a:solidFill>
              <a:latin typeface="Comic Sans MS"/>
            </a:endParaRPr>
          </a:p>
        </p:txBody>
      </p:sp>
      <p:sp>
        <p:nvSpPr>
          <p:cNvPr id="2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Evrak İncelenmesi, Delil Toplanması ve Değerlendirilmesi:</a:t>
            </a:r>
            <a:endParaRPr b="0" lang="en-US" sz="2000" spc="-1" strike="noStrike">
              <a:solidFill>
                <a:srgbClr val="0033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	</a:t>
            </a:r>
            <a:r>
              <a:rPr b="0" lang="en-US" sz="2000" spc="-1" strike="noStrike">
                <a:solidFill>
                  <a:srgbClr val="003300"/>
                </a:solidFill>
                <a:latin typeface="Comic Sans MS"/>
              </a:rPr>
              <a:t>İddialara ilişkin konularda evrakın incelenmesi, delillerin toplanması ve ilgili mevzuat hükümlerinin dikkate alınarak değerlendirilmesi büyük önem taşır. Bu çalışmalar sırasında, resmi kayıtlardan rapora geçirilmesi gerekli görülen hususlar not edilmeli, önemli bulunan ve delil olarak rapora eklenmesi gerekli görülen kayıt, def­ter ve belgelerin ilgili kısımlarının onaylı örnekleri alınmalı, olayı veya iddiaları açıklığa kavuşturabilecek her türlü delilin eksiksiz toplanmasına, şikayetçi ya da it­ham edilenler tarafından incelenmesi istenilen kayıt ve belgelerden iddia konularıyla ilgili olanlarının incelenip değerlendirilmesine gereken özen gösterilmelidi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434B727E-B310-41CC-BF67-6142387F898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Comic Sans MS"/>
              </a:rPr>
              <a:t>SORUŞTURMANIN YÜRÜTÜLMESİ</a:t>
            </a:r>
            <a:endParaRPr b="1" i="1" lang="en-US" sz="2800" spc="-1" strike="noStrike">
              <a:solidFill>
                <a:srgbClr val="003300"/>
              </a:solidFill>
              <a:latin typeface="Comic Sans MS"/>
            </a:endParaRPr>
          </a:p>
        </p:txBody>
      </p:sp>
      <p:sp>
        <p:nvSpPr>
          <p:cNvPr id="2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İfadelerin Alınması</a:t>
            </a:r>
            <a:r>
              <a:rPr b="0" lang="en-US" sz="2400" spc="-1" strike="noStrike">
                <a:solidFill>
                  <a:srgbClr val="003300"/>
                </a:solidFill>
                <a:latin typeface="Comic Sans MS"/>
              </a:rPr>
              <a:t> :Varsa önce şikayetçinin veya muhbirin dinlenilmesi usuldendir. Şikayetçi veya muhbir ça­ğırıldığında, dilekçe ya da tutanak kendisine </a:t>
            </a:r>
            <a:r>
              <a:rPr b="0" i="1" lang="en-US" sz="2400" spc="-1" strike="noStrike">
                <a:solidFill>
                  <a:srgbClr val="003300"/>
                </a:solidFill>
                <a:latin typeface="Comic Sans MS"/>
              </a:rPr>
              <a:t>gösterilmek suretiyle imzanın kendisine</a:t>
            </a:r>
            <a:r>
              <a:rPr b="0" lang="en-US" sz="2400" spc="-1" strike="noStrike">
                <a:solidFill>
                  <a:srgbClr val="003300"/>
                </a:solidFill>
                <a:latin typeface="Comic Sans MS"/>
              </a:rPr>
              <a:t> ait olup olmadığının tespiti yapılarak ifadesinin alınmasına başlanmalı; kendisinden, iddia konusuyla ilgili olarak yer, zaman ve tanıklarla ilgili açıklamalar yapması istenmeli, varsa konuya ilişkin belge ve delil sunup sunamayaca­ğı açıkça sorulmalı; sunulan belge ve delillerin tutanağa açıkça yazılması sağlanmalıdır. </a:t>
            </a:r>
            <a:endParaRPr b="0" lang="en-US" sz="2400" spc="-1" strike="noStrike">
              <a:solidFill>
                <a:srgbClr val="0033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BE9A23BA-B034-4C73-A737-66A83058AB9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Comic Sans MS"/>
              </a:rPr>
              <a:t>SORUŞTURMANIN YÜRÜTÜLMESİ</a:t>
            </a:r>
            <a:endParaRPr b="1" i="1" lang="en-US" sz="2800" spc="-1" strike="noStrike">
              <a:solidFill>
                <a:srgbClr val="003300"/>
              </a:solidFill>
              <a:latin typeface="Comic Sans MS"/>
            </a:endParaRPr>
          </a:p>
        </p:txBody>
      </p:sp>
      <p:sp>
        <p:nvSpPr>
          <p:cNvPr id="2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 </a:t>
            </a:r>
            <a:r>
              <a:rPr b="0" lang="en-US" sz="2000" spc="-1" strike="noStrike">
                <a:solidFill>
                  <a:srgbClr val="003300"/>
                </a:solidFill>
                <a:latin typeface="Comic Sans MS"/>
              </a:rPr>
              <a:t>Şikayetçiden sonra tanıkların dinlenilmesine başlanır. İfadeler, soruların söz­lü olarak sorulup cevabın hemen yazılmasıyla “ifade tutanağı’ şeklinde alınabileceği gibi, soruların yazılı olarak verilmesiyle ‘yazılı ifade’ şeklinde de alınabilir. Bu aşamada, ilgililere sorulacak soruların çok iyi değerlendirilmesi, kullanılacak kelimele­rin titizlikle seçilmesi, açık ve anlaşılır olmasına özen gösterilmesi gereklidir. şika­yetçi ve itham edilenlerce gösterilen yeteri kadar tanığın dinlenilmesine çalışılmalı, gerekli görülmesi halinde, kurum, ilçe ve il yöneticilerinin de sözlü veya yazılı gö­rüşleri istenmelidir. şikayetçi, tanık ve itham edilenlerin ifadeleri ayrı ayrı alınmalı, birbirleri ile karşılaşmalarına meydan verilmemelidi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19ABDFBD-73E6-4AA2-B0C8-203D3CD36B6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Comic Sans MS"/>
              </a:rPr>
              <a:t>SORUŞTURMANIN YÜRÜTÜLMESİ</a:t>
            </a:r>
            <a:endParaRPr b="1" i="1" lang="en-US" sz="2800" spc="-1" strike="noStrike">
              <a:solidFill>
                <a:srgbClr val="003300"/>
              </a:solidFill>
              <a:latin typeface="Comic Sans MS"/>
            </a:endParaRPr>
          </a:p>
        </p:txBody>
      </p:sp>
      <p:sp>
        <p:nvSpPr>
          <p:cNvPr id="27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Yazılı ifadede soruların önceden yazılarak verilmesi, ifade tutanağı düzenlen­mesi halinde de hüviyet tespitinden sonra, sorular yazılmadan ve alınacak cevapların satır atlanmaksızın, paragraf yapmaksızın yazılması, ifadenin birkaç sayfa sürmesi halinde her sayfanın altının ilgililerce parafe edilmesi, son sayfanın isim ve unvan açılarak imzalanması gerekir.</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İtham edilenlerin ve suç ortaklarının haklarındaki iddiaları kabullenmeleri halinde dahi bu durumla yetinilmeyerek, tanıkların ifadelerine başvurulması, delillerin tespiti, toplanma ve değerlendirilme prosedürü işletilmelidi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725C7985-4418-417A-99CB-FA6D7017F50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Comic Sans MS"/>
              </a:rPr>
              <a:t>SORUŞTURMANIN YÜRÜTÜLMESİ</a:t>
            </a:r>
            <a:endParaRPr b="1" i="1" lang="en-US" sz="2800" spc="-1" strike="noStrike">
              <a:solidFill>
                <a:srgbClr val="003300"/>
              </a:solidFill>
              <a:latin typeface="Comic Sans MS"/>
            </a:endParaRPr>
          </a:p>
        </p:txBody>
      </p:sp>
      <p:sp>
        <p:nvSpPr>
          <p:cNvPr id="2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İtham edilenlere haklarındaki iddialar, madde madde sorularak cevaplandır­ması istenilmeli, ifade veren kişiye müdahale edilmemeli, kullandığı kelimeler ve cümleler yanlış da olsa aynen yazılmalı, söyleyeceklerinin tamamını belirtmesine imkan verilmeli, yazacağını veya söyleyeceğini tamamladıktan sonra cevaplandırıl­ması istenilen hususlardan eksik kalan varsa hatırlatılmalı, başka bir diyeceğinin bu­lunup bulunmadığı mutlaka sorulmalı ve bu husus soru cevap olarak tutanağa geçirildikten sonra ifadesi imzalatılmalıdı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3AEF973D-4FF8-4829-B656-CD1CD833672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9907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eftişte Amaç</a:t>
            </a:r>
            <a:endParaRPr b="1" i="1" lang="en-US" sz="3200" spc="-1" strike="noStrike">
              <a:solidFill>
                <a:srgbClr val="003300"/>
              </a:solidFill>
              <a:latin typeface="Comic Sans MS"/>
            </a:endParaRPr>
          </a:p>
        </p:txBody>
      </p:sp>
      <p:sp>
        <p:nvSpPr>
          <p:cNvPr id="123"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   </a:t>
            </a:r>
            <a:r>
              <a:rPr b="0" lang="en-US" sz="3200" spc="-1" strike="noStrike">
                <a:solidFill>
                  <a:srgbClr val="003300"/>
                </a:solidFill>
                <a:latin typeface="Comic Sans MS"/>
              </a:rPr>
              <a:t>	</a:t>
            </a:r>
            <a:r>
              <a:rPr b="0" lang="en-US" sz="3200" spc="-1" strike="noStrike" u="sng">
                <a:solidFill>
                  <a:srgbClr val="003300"/>
                </a:solidFill>
                <a:uFillTx/>
                <a:latin typeface="Comic Sans MS"/>
              </a:rPr>
              <a:t>Amaçlar </a:t>
            </a:r>
            <a:r>
              <a:rPr b="0" lang="en-US" sz="3200" spc="-1" strike="noStrike">
                <a:solidFill>
                  <a:srgbClr val="003300"/>
                </a:solidFill>
                <a:latin typeface="Comic Sans MS"/>
              </a:rPr>
              <a:t>, belirli çalışmanın sonunda ulaşılması istenilen, arzulanan veya zorunlu görülen hedef ve gayelerdir, </a:t>
            </a: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40895FD1-DB28-40AC-8862-896B6170E65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Comic Sans MS"/>
              </a:rPr>
              <a:t>SORUŞTURMANIN YÜRÜTÜLMESİ</a:t>
            </a:r>
            <a:endParaRPr b="1" i="1" lang="en-US" sz="2800" spc="-1" strike="noStrike">
              <a:solidFill>
                <a:srgbClr val="003300"/>
              </a:solidFill>
              <a:latin typeface="Comic Sans MS"/>
            </a:endParaRPr>
          </a:p>
        </p:txBody>
      </p:sp>
      <p:sp>
        <p:nvSpPr>
          <p:cNvPr id="2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Sonuç Çıkarma:</a:t>
            </a:r>
            <a:r>
              <a:rPr b="0" lang="en-US" sz="2000" spc="-1" strike="noStrike">
                <a:solidFill>
                  <a:srgbClr val="003300"/>
                </a:solidFill>
                <a:latin typeface="Comic Sans MS"/>
              </a:rPr>
              <a:t>Soruşturmalarda, sağlıklı ve tutarlı bir sonuca ulaşabilmek en önemli husus­lardandır. Bu cümleden olmak üzere, soruşturma konusu fiil ve durumların yasal un­surlarının açık ve ayrıntılı bir şekilde belirlenmesi, hakkında soruşturma yapılanın/şüphelinin/sanığın lehindeki ve aleyhindeki bütün kanıtların toplanması, gösterilmesi ve değerlendirilmesi, sonucu etkilemeye­cek gereksiz ayrıntı ve açıklamalara girilerek kusurun, esas kanıt ve bulguların ikin­ci plana düşürülmemesi, raporun bütün soruşturma konularını kapsayacak şekilde doğru ve eksiksiz olması, konulara duygu, etki ve isabetsiz yorumlardan uzak bir düşünceyle yaklaşılması, sebep ve sonuçların açıkça belirtilmesi, raporun bölümleri arasında herhangi bir çelişkiye meydan verilmemesi ve böylece sağlıklı bir sonuca ulaşılması gereklidi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22B121A7-B7F6-4D93-A321-6842AD771BC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Comic Sans MS"/>
              </a:rPr>
              <a:t>SORUŞTURMANIN YÜRÜTÜLMESİ</a:t>
            </a:r>
            <a:endParaRPr b="1" i="1" lang="en-US" sz="2800" spc="-1" strike="noStrike">
              <a:solidFill>
                <a:srgbClr val="003300"/>
              </a:solidFill>
              <a:latin typeface="Comic Sans MS"/>
            </a:endParaRPr>
          </a:p>
        </p:txBody>
      </p:sp>
      <p:sp>
        <p:nvSpPr>
          <p:cNvPr id="28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Belgelerin Tasnifi:</a:t>
            </a:r>
            <a:r>
              <a:rPr b="0" lang="en-US" sz="2000" spc="-1" strike="noStrike">
                <a:solidFill>
                  <a:srgbClr val="003300"/>
                </a:solidFill>
                <a:latin typeface="Comic Sans MS"/>
              </a:rPr>
              <a:t>İdari soruşturmalarda, soruşturma kapsamında bulunan tüm iddialarla ilgili olarak, gereken inceleme ve soruşturmanın tamamlandığına, iddiaların doğruluğunu ya da yanlışlığını ortaya koyabilecek tüm belge ve kanıtların toplandığına kanaat ge­tirilmesi üzerine soruşturma ile ilgili belgeler tasnif edilerek bir dosya düzenlenir. Belgeler, görevlendirme ve soruşturma emirleri ile varsa ekleri, şikayetçi veya muh­bire ait ifade, tanıkların ifadeleri, toplanan ve değerlendirilen evrak ve doküman ve­ya bunların onaylı örnekleri şeklinde sıralandıktan sonra, dizi pusulasındaki sıra nu­maraları doğrultusunda numara verilerek sağ üst köşeleri mühürlenip paraflanma­lıdı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DB2CEA33-83DF-4D24-809B-E1AB4E93F9C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NIN YÜRÜTÜLMESİ VE İNCELEME / SORUŞTURMA RAPORUNUN DÜZENLENMESİ</a:t>
            </a:r>
            <a:endParaRPr b="1" i="1" lang="en-US" sz="2400" spc="-1" strike="noStrike">
              <a:solidFill>
                <a:srgbClr val="003300"/>
              </a:solidFill>
              <a:latin typeface="Comic Sans MS"/>
            </a:endParaRPr>
          </a:p>
        </p:txBody>
      </p:sp>
      <p:sp>
        <p:nvSpPr>
          <p:cNvPr id="28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İdari soruşturma raporları açık bir anlatımla kaleme alınmalı, incelenen ve so­ruşturulan konularla ilgili fiil ve durumlar, bunların yasal unsurları açık ve etraflı şe­kilde belirtilmeli, hatalı, kusurlu fiil ve durumlar, itham edilen kişinin yararına ve za­rarına olan tüm kanıtlar değerlendirilmeli, sonucu etkilemeyecek gereksiz açıklama­lara girilmemeli, bütün soruşturma konularını kapsayacak nitelikte olmasına özen gösterilmeli, yapılan incelemeler eksiksiz şekilde aksettirilmeli, konular pürüzsüz bir anlatımla ortaya konulmalı ve çözümlenmeli, konulara, yanlış yorumlamalara yol aç­mayacak bir şekilde, objektif bir tutumla yaklaşılmalı, getirilen tekliflerin sebep ve dayanakları açıkça belirtilmeli, bir önceki bölümün bir sonraki bölümü açıklayıcı ve geliştirici nitelikte olmasına, bölümler arasında denge bulunmasına dikkat edilmeli, kullanılan yasal ve mesleki deyim ve kelimelerin seçimi ve kullanılmasında özenli davranılmalı, Türk Ceza Kanununda suçların tanımlanmasında kullanılan kavramların yersiz kullanımından kaçınmalıdır.</a:t>
            </a:r>
            <a:endParaRPr b="0" lang="en-US" sz="1800" spc="-1" strike="noStrike">
              <a:solidFill>
                <a:srgbClr val="003300"/>
              </a:solidFill>
              <a:latin typeface="Comic Sans MS"/>
            </a:endParaRPr>
          </a:p>
        </p:txBody>
      </p:sp>
      <p:sp>
        <p:nvSpPr>
          <p:cNvPr id="4" name="PlaceHolder 3"/>
          <p:cNvSpPr>
            <a:spLocks noGrp="1"/>
          </p:cNvSpPr>
          <p:nvPr>
            <p:ph type="sldNum" idx="2"/>
          </p:nvPr>
        </p:nvSpPr>
        <p:spPr/>
        <p:txBody>
          <a:bodyPr/>
          <a:p>
            <a:fld id="{A94EC6CA-5DAF-4C3A-A551-8C2DA46DFFD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NIN YÜRÜTÜLMESİ VE İNCELEME / SORUŞTURMA RAPORUNUN DÜZENLENMESİ</a:t>
            </a:r>
            <a:endParaRPr b="1" i="1" lang="en-US" sz="2400" spc="-1" strike="noStrike">
              <a:solidFill>
                <a:srgbClr val="003300"/>
              </a:solidFill>
              <a:latin typeface="Comic Sans MS"/>
            </a:endParaRPr>
          </a:p>
        </p:txBody>
      </p:sp>
      <p:sp>
        <p:nvSpPr>
          <p:cNvPr id="28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Ayrıca, idari soruşturma raporunun şekil yönünden de eksiksiz olması bakımından usule uygun bir rapor kapağı düzenlenmesi,  raporun ve dizi pusulasının düzgün bir ifade ile silintisiz ve kazıntısız şekilde yazılmış olması, tarih, sayı, imza eksikleri bulunmaması, dizi pusulasındaki sıra numaraları ile rapor yazımındaki açıklamalar arasında bağlantı kurulması, raporun ve dizi pusulasının son sayfaları hariç tüm sayfalarının düzenleyenler tarafından parafe edil­mesi, raporun ve dizi pusulasının son sayfalarında yer alan isim ve unvanların üstü­nün imzalanmış olması, ifade tutanaklarında ilgililerin paraf ve imzalarının noksan olmaması, raporda ve eklerinde dikkat edilecek hususlardandı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0DAD51B2-7C3C-40F9-BB75-EC9FA6370C0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NIN YÜRÜTÜLMESİ VE İNCELEME / SORUŞTURMA RAPORUNUN DÜZENLENMESİ</a:t>
            </a:r>
            <a:endParaRPr b="1" i="1" lang="en-US" sz="2400" spc="-1" strike="noStrike">
              <a:solidFill>
                <a:srgbClr val="003300"/>
              </a:solidFill>
              <a:latin typeface="Comic Sans MS"/>
            </a:endParaRPr>
          </a:p>
        </p:txBody>
      </p:sp>
      <p:sp>
        <p:nvSpPr>
          <p:cNvPr id="29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	</a:t>
            </a:r>
            <a:r>
              <a:rPr b="1" lang="en-US" sz="2400" spc="-1" strike="noStrike">
                <a:solidFill>
                  <a:srgbClr val="003300"/>
                </a:solidFill>
                <a:latin typeface="Comic Sans MS"/>
              </a:rPr>
              <a:t>Soruşturma Raporunun Bölümleri:</a:t>
            </a:r>
            <a:r>
              <a:rPr b="0" lang="en-US" sz="2400" spc="-1" strike="noStrike">
                <a:solidFill>
                  <a:srgbClr val="003300"/>
                </a:solidFill>
                <a:latin typeface="Comic Sans MS"/>
              </a:rPr>
              <a:t>İdari soruşturma raporlarının yazılmasında bir şekil şartı zorunluluğu bulun­mamakla beraber, bu raporlar genellikle aşağıda belirtilen bölümlerden oluşur.</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GİRİŞ</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İNCELEME VE SORUŞTURMANIN KONUSU</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YAPILAN İNCELEME VE SORUŞTURMA     ÇALIŞMALARI</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BİLGİ, BELGE VE İFADELERİN DEĞERLENDİRİLMESİ</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SONUÇ - KANAAT  VE TEKLİF</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2C34342F-9285-47DE-8A1D-1A5A428ABC1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Soruşturma Raporunun Bölümleri</a:t>
            </a:r>
            <a:endParaRPr b="1" i="1" lang="en-US" sz="3200" spc="-1" strike="noStrike">
              <a:solidFill>
                <a:srgbClr val="003300"/>
              </a:solidFill>
              <a:latin typeface="Comic Sans MS"/>
            </a:endParaRPr>
          </a:p>
        </p:txBody>
      </p:sp>
      <p:sp>
        <p:nvSpPr>
          <p:cNvPr id="29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3300"/>
                </a:solidFill>
                <a:latin typeface="Comic Sans MS"/>
              </a:rPr>
              <a:t>Giriş bölümünde;</a:t>
            </a:r>
            <a:r>
              <a:rPr b="0" lang="tr-TR" sz="2800" spc="-1" strike="noStrike">
                <a:solidFill>
                  <a:srgbClr val="003300"/>
                </a:solidFill>
                <a:latin typeface="Comic Sans MS"/>
              </a:rPr>
              <a:t> inceleme ve soruşturma onay(lar)ı ve görevlendirme emir(ler)i belirtilir, hangi görevliler hakkında ve nerede, hangi tarihler arasında inceleme-soruşturma çalışmalarının yürütüldüğü kısaca açıklanır. Bu bölüm, yapılan kısa açıklamalar sonrasında “İnceleme-soruşturma çalışmalarında tespit edilen hususlar aşağıda açıklanmış­tır.”  şeklinde bir ifade ile bağlanabili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B53F77DB-A610-4BAD-911F-F405AC0E41E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Soruşturma Raporunun Bölümleri</a:t>
            </a:r>
            <a:endParaRPr b="1" i="1" lang="en-US" sz="3600" spc="-1" strike="noStrike">
              <a:solidFill>
                <a:srgbClr val="003300"/>
              </a:solidFill>
              <a:latin typeface="Comic Sans MS"/>
            </a:endParaRPr>
          </a:p>
        </p:txBody>
      </p:sp>
      <p:sp>
        <p:nvSpPr>
          <p:cNvPr id="29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3300"/>
                </a:solidFill>
                <a:latin typeface="Comic Sans MS"/>
              </a:rPr>
              <a:t>İnceleme ve soruşturmanın konusu bölümünde; </a:t>
            </a:r>
            <a:r>
              <a:rPr b="0" lang="tr-TR" sz="3200" spc="-1" strike="noStrike">
                <a:solidFill>
                  <a:srgbClr val="003300"/>
                </a:solidFill>
                <a:latin typeface="Comic Sans MS"/>
              </a:rPr>
              <a:t>Makam onay(lar)ında yer alan ve/veya onayda açıkça ilgi tutulan inceleme ve soruşturma konuları aynen </a:t>
            </a:r>
            <a:r>
              <a:rPr b="1" lang="tr-TR" sz="3200" spc="-1" strike="noStrike">
                <a:solidFill>
                  <a:srgbClr val="003300"/>
                </a:solidFill>
                <a:latin typeface="Comic Sans MS"/>
              </a:rPr>
              <a:t>“ … ” </a:t>
            </a:r>
            <a:r>
              <a:rPr b="0" lang="tr-TR" sz="3200" spc="-1" strike="noStrike">
                <a:solidFill>
                  <a:srgbClr val="003300"/>
                </a:solidFill>
                <a:latin typeface="Comic Sans MS"/>
              </a:rPr>
              <a:t>yazılır.</a:t>
            </a: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C5420946-05C0-4424-83A9-9D64E8E426D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Soruşturma Raporunun Bölümleri</a:t>
            </a:r>
            <a:endParaRPr b="1" i="1" lang="en-US" sz="3600" spc="-1" strike="noStrike">
              <a:solidFill>
                <a:srgbClr val="003300"/>
              </a:solidFill>
              <a:latin typeface="Comic Sans MS"/>
            </a:endParaRPr>
          </a:p>
        </p:txBody>
      </p:sp>
      <p:sp>
        <p:nvSpPr>
          <p:cNvPr id="2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Yapılan inceleme ve soruşturma çalışmaları bölümünde;</a:t>
            </a:r>
            <a:r>
              <a:rPr b="0" lang="en-US" sz="2400" spc="-1" strike="noStrike">
                <a:solidFill>
                  <a:srgbClr val="003300"/>
                </a:solidFill>
                <a:latin typeface="Comic Sans MS"/>
              </a:rPr>
              <a:t> inceleme ve soruşturmaya nasıl başlanıldı­ğı açıklandıktan sonra, inceleme-soruşturma konuları/iddiaları ile ilgili incelenen belgeler ve kayıtlar ile rapora ek olarak konulan belgeler belirtilir, bu belgelerden ve ilgili kurum, kuruluş ve kişilerden elde edilen bilgiler kaynakları itibariyle açıklanır; şikayetçi veya muhbir, tanık ve şüpheli/sanık ifadelerine “…” aynen yer verilir veya ifadelerinin muhtevasını aynen yansıtacak eş değer düzeyde özet açıklamalar yapılı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794215C3-2906-40B3-9D74-51230669DBE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Soruşturma Raporunun Bölümleri</a:t>
            </a:r>
            <a:endParaRPr b="1" i="1" lang="en-US" sz="3600" spc="-1" strike="noStrike">
              <a:solidFill>
                <a:srgbClr val="003300"/>
              </a:solidFill>
              <a:latin typeface="Comic Sans MS"/>
            </a:endParaRPr>
          </a:p>
        </p:txBody>
      </p:sp>
      <p:sp>
        <p:nvSpPr>
          <p:cNvPr id="2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Comic Sans MS"/>
              </a:rPr>
              <a:t>Bilgi, belge ve ifadelerin değerlendirilmesi </a:t>
            </a:r>
            <a:r>
              <a:rPr b="0" lang="en-US" sz="1800" spc="-1" strike="noStrike">
                <a:solidFill>
                  <a:srgbClr val="003300"/>
                </a:solidFill>
                <a:latin typeface="Comic Sans MS"/>
              </a:rPr>
              <a:t>(tahlil ve münakaşa</a:t>
            </a:r>
            <a:r>
              <a:rPr b="1" lang="en-US" sz="1800" spc="-1" strike="noStrike">
                <a:solidFill>
                  <a:srgbClr val="003300"/>
                </a:solidFill>
                <a:latin typeface="Comic Sans MS"/>
              </a:rPr>
              <a:t>) bölümünde;</a:t>
            </a:r>
            <a:r>
              <a:rPr b="0" lang="en-US" sz="1800" spc="-1" strike="noStrike">
                <a:solidFill>
                  <a:srgbClr val="003300"/>
                </a:solidFill>
                <a:latin typeface="Comic Sans MS"/>
              </a:rPr>
              <a:t> toplanan bilgi ve belgelerin karşılaştırılıp değerlendirilmesiyle ileriye sürülen ve soruşturmaya konu oluşturan iddiaların kesin­lik kazanıp kazanmadığı, suç veya kusur oluşturucu nitelikte bulunup bulunmadığı tartışılır. Bu bölümde, hakkında soruşturma yapılanla / sanıkla ilgili iddialar ile kayıt, belge ve bulgular üzerinde ya­pılan inceleme ve tespitler, tanık ifadelerinden çıkan sonuçlar tahlil edilerek iddia konuları açıklığa kavuşturulur. Yapılan bu değerlendirme aşamasında, mevzuat hüküm­leri titizlikle göz önünde bulundurulur ve belirlenen kusurlu davranışın hangi kanun, tüzük, yönetmelik, yönerge veya emre aykırı olduğu belirtilir. İddianın aksine bir du­rum söz konusu ise fiilin kusur teşkil etmediği delillerle ortaya konulur.</a:t>
            </a:r>
            <a:endParaRPr b="0" lang="en-US" sz="1800" spc="-1" strike="noStrike">
              <a:solidFill>
                <a:srgbClr val="003300"/>
              </a:solidFill>
              <a:latin typeface="Comic Sans MS"/>
            </a:endParaRPr>
          </a:p>
          <a:p>
            <a:pPr marL="343080" indent="-3430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  </a:t>
            </a:r>
            <a:r>
              <a:rPr b="0" lang="en-US" sz="1800" spc="-1" strike="noStrike">
                <a:solidFill>
                  <a:srgbClr val="003300"/>
                </a:solidFill>
                <a:latin typeface="Comic Sans MS"/>
              </a:rPr>
              <a:t>Bu bölümde, raporun ‘İnceleme ve Soruşturmanın Konusu’ başlığı altında sı­ralanan iddialar, aynı sıra dahilinde ve bağımsız maddeler halinde ele alınarak, yasal yaptırımları ve sübuta ulaşıp ulaşmadıkları açık ve net olarak belirtilir.</a:t>
            </a:r>
            <a:endParaRPr b="0" lang="en-US" sz="1800" spc="-1" strike="noStrike">
              <a:solidFill>
                <a:srgbClr val="003300"/>
              </a:solidFill>
              <a:latin typeface="Comic Sans MS"/>
            </a:endParaRPr>
          </a:p>
        </p:txBody>
      </p:sp>
      <p:sp>
        <p:nvSpPr>
          <p:cNvPr id="4" name="PlaceHolder 3"/>
          <p:cNvSpPr>
            <a:spLocks noGrp="1"/>
          </p:cNvSpPr>
          <p:nvPr>
            <p:ph type="sldNum" idx="2"/>
          </p:nvPr>
        </p:nvSpPr>
        <p:spPr/>
        <p:txBody>
          <a:bodyPr/>
          <a:p>
            <a:fld id="{3F1183C7-CB2B-49D8-ABE4-DBB09A14162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Soruşturma Raporunun Bölümleri</a:t>
            </a:r>
            <a:endParaRPr b="1" i="1" lang="en-US" sz="3600" spc="-1" strike="noStrike">
              <a:solidFill>
                <a:srgbClr val="003300"/>
              </a:solidFill>
              <a:latin typeface="Comic Sans MS"/>
            </a:endParaRPr>
          </a:p>
        </p:txBody>
      </p:sp>
      <p:sp>
        <p:nvSpPr>
          <p:cNvPr id="30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00"/>
                </a:solidFill>
                <a:latin typeface="Comic Sans MS"/>
              </a:rPr>
              <a:t> </a:t>
            </a:r>
            <a:r>
              <a:rPr b="1" lang="tr-TR" sz="2400" spc="-1" strike="noStrike">
                <a:solidFill>
                  <a:srgbClr val="003300"/>
                </a:solidFill>
                <a:latin typeface="Comic Sans MS"/>
              </a:rPr>
              <a:t>Sonuç, kanaat ve teklif bölümünde;</a:t>
            </a:r>
            <a:r>
              <a:rPr b="0" lang="tr-TR" sz="2400" spc="-1" strike="noStrike">
                <a:solidFill>
                  <a:srgbClr val="003300"/>
                </a:solidFill>
                <a:latin typeface="Comic Sans MS"/>
              </a:rPr>
              <a:t> önceki bölümlerle uyumlu olmak kaydıyla, ileri sürülen iddialarla ilgili olarak kusur niteliğinde bir eylemin olup olmadığı, şayet sübuta eren kusurlu bir davranış söz konusu ise bunun hangi mevzuatın hangi mad­desine aykırı bulunduğu, özel veya genel kanunun hangi maddesi kapsamına girdiği belirtilmeli, kesinlik kazanmayan iddialar da açıklanmalıdır.</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00"/>
                </a:solidFill>
                <a:latin typeface="Comic Sans MS"/>
              </a:rPr>
              <a:t>Aynı kişi ile ilgili birden fazla kusurun kesinleşmesi halinde her kusurun kar­şılığı olan ceza ve ilgili maddesi belirtilmek suretiyle, </a:t>
            </a:r>
            <a:r>
              <a:rPr b="1" lang="tr-TR" sz="2400" spc="-1" strike="noStrike">
                <a:solidFill>
                  <a:srgbClr val="003300"/>
                </a:solidFill>
                <a:latin typeface="Comic Sans MS"/>
              </a:rPr>
              <a:t>tevhiden</a:t>
            </a:r>
            <a:r>
              <a:rPr b="0" lang="tr-TR" sz="2400" spc="-1" strike="noStrike">
                <a:solidFill>
                  <a:srgbClr val="003300"/>
                </a:solidFill>
                <a:latin typeface="Comic Sans MS"/>
              </a:rPr>
              <a:t> bunlardan en ağırı ile cezalandırılması teklif edilmelidir. </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07F0684F-AEC0-4795-A37D-00872B0B007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vent</cp:lastModifiedBy>
  <dcterms:modified xsi:type="dcterms:W3CDTF">2010-11-29T00:04:26Z</dcterms:modified>
  <cp:revision>2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